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573-915E-47C5-B472-870F610FAB5B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D20-24A2-487C-B6A6-000F88F5844E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23F-C105-403F-AC16-38B17E56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2FB-0B36-4686-A52A-22C8FD17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ECC-58E7-4738-94F9-92A8A586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278-DDF1-438E-AA1D-C45DC79F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994-FF1C-403C-8FDD-DEC4827E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017-8026-423B-AD8D-6972A011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D6D-C693-4615-9243-97B3ECC7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7C0-4D22-4814-B1E3-4E89AF14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662-E1D3-4665-8980-10AA627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1C1-7206-4286-BBB6-BE0B52F7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9A9-5674-4000-9ABD-820F0FEE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C9F-8F3F-4EE6-B4F5-5116842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D8E6-5DD5-4408-AD27-1CF66EA799B1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 and Herwig Brune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kstvak 444"/>
          <p:cNvSpPr/>
          <p:nvPr/>
        </p:nvSpPr>
        <p:spPr>
          <a:xfrm>
            <a:off x="663480" y="11068200"/>
            <a:ext cx="13609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trategy for supplying materials to an assembly lin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parts necessary for assembly are collected into a container    referred to as « kit », prior arriving at an assembly un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 defined as a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Continuous Time Markov Ch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Object 436" descr=""/>
          <p:cNvPicPr/>
          <p:nvPr/>
        </p:nvPicPr>
        <p:blipFill>
          <a:blip r:embed="rId2"/>
          <a:stretch/>
        </p:blipFill>
        <p:spPr>
          <a:xfrm>
            <a:off x="6280200" y="5559480"/>
            <a:ext cx="1049400" cy="43344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75"/>
          <p:cNvSpPr/>
          <p:nvPr/>
        </p:nvSpPr>
        <p:spPr>
          <a:xfrm>
            <a:off x="22410720" y="13733640"/>
            <a:ext cx="4535640" cy="581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2d050"/>
                </a:solidFill>
                <a:latin typeface="Verdana"/>
              </a:rPr>
              <a:t>Base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2" descr=""/>
          <p:cNvPicPr/>
          <p:nvPr/>
        </p:nvPicPr>
        <p:blipFill>
          <a:blip r:embed="rId3"/>
          <a:stretch/>
        </p:blipFill>
        <p:spPr>
          <a:xfrm>
            <a:off x="2031840" y="15460560"/>
            <a:ext cx="972828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Tekstvak 480"/>
          <p:cNvSpPr/>
          <p:nvPr/>
        </p:nvSpPr>
        <p:spPr>
          <a:xfrm>
            <a:off x="7216920" y="19997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ep 484"/>
          <p:cNvGrpSpPr/>
          <p:nvPr/>
        </p:nvGrpSpPr>
        <p:grpSpPr>
          <a:xfrm>
            <a:off x="16649640" y="11212560"/>
            <a:ext cx="8064720" cy="3456000"/>
            <a:chOff x="16649640" y="11212560"/>
            <a:chExt cx="8064720" cy="3456000"/>
          </a:xfrm>
        </p:grpSpPr>
        <p:pic>
          <p:nvPicPr>
            <p:cNvPr id="72" name="Picture 433" descr=""/>
            <p:cNvPicPr/>
            <p:nvPr/>
          </p:nvPicPr>
          <p:blipFill>
            <a:blip r:embed="rId4"/>
            <a:stretch/>
          </p:blipFill>
          <p:spPr>
            <a:xfrm>
              <a:off x="16649640" y="11212560"/>
              <a:ext cx="806472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443" descr=""/>
            <p:cNvPicPr/>
            <p:nvPr/>
          </p:nvPicPr>
          <p:blipFill>
            <a:blip r:embed="rId5"/>
            <a:stretch/>
          </p:blipFill>
          <p:spPr>
            <a:xfrm>
              <a:off x="18547200" y="11260800"/>
              <a:ext cx="878040" cy="39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ep 489"/>
          <p:cNvGrpSpPr/>
          <p:nvPr/>
        </p:nvGrpSpPr>
        <p:grpSpPr>
          <a:xfrm>
            <a:off x="23274360" y="15928920"/>
            <a:ext cx="7345440" cy="2592360"/>
            <a:chOff x="23274360" y="15928920"/>
            <a:chExt cx="7345440" cy="2592360"/>
          </a:xfrm>
        </p:grpSpPr>
        <p:sp>
          <p:nvSpPr>
            <p:cNvPr id="75" name="Rond hoek zelfde zijde rechthoek 490"/>
            <p:cNvSpPr/>
            <p:nvPr/>
          </p:nvSpPr>
          <p:spPr>
            <a:xfrm rot="5400000">
              <a:off x="25650720" y="13552200"/>
              <a:ext cx="2592360" cy="7345440"/>
            </a:xfrm>
            <a:custGeom>
              <a:avLst/>
              <a:gdLst>
                <a:gd name="textAreaLeft" fmla="*/ 126360 w 2592360"/>
                <a:gd name="textAreaRight" fmla="*/ 2466000 w 2592360"/>
                <a:gd name="textAreaTop" fmla="*/ 63000 h 7345440"/>
                <a:gd name="textAreaBottom" fmla="*/ 7345800 h 734544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ond hoek zelfde zijde rechthoek 4"/>
            <p:cNvSpPr/>
            <p:nvPr/>
          </p:nvSpPr>
          <p:spPr>
            <a:xfrm>
              <a:off x="23274360" y="16056000"/>
              <a:ext cx="7282080" cy="23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77" name="Picture 444" descr=""/>
          <p:cNvPicPr/>
          <p:nvPr/>
        </p:nvPicPr>
        <p:blipFill>
          <a:blip r:embed="rId6"/>
          <a:stretch/>
        </p:blipFill>
        <p:spPr>
          <a:xfrm>
            <a:off x="14128920" y="15173280"/>
            <a:ext cx="8523000" cy="6330960"/>
          </a:xfrm>
          <a:prstGeom prst="rect">
            <a:avLst/>
          </a:prstGeom>
          <a:ln w="0">
            <a:noFill/>
          </a:ln>
        </p:spPr>
      </p:pic>
      <p:sp>
        <p:nvSpPr>
          <p:cNvPr id="78" name="Tekstvak 499"/>
          <p:cNvSpPr/>
          <p:nvPr/>
        </p:nvSpPr>
        <p:spPr>
          <a:xfrm>
            <a:off x="18810360" y="1898964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b0f0"/>
                </a:solidFill>
                <a:latin typeface="Verdana"/>
              </a:rPr>
              <a:t>Model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" name="Groep 505"/>
          <p:cNvGrpSpPr/>
          <p:nvPr/>
        </p:nvGrpSpPr>
        <p:grpSpPr>
          <a:xfrm>
            <a:off x="376200" y="26514360"/>
            <a:ext cx="23114160" cy="12746160"/>
            <a:chOff x="376200" y="26514360"/>
            <a:chExt cx="23114160" cy="12746160"/>
          </a:xfrm>
        </p:grpSpPr>
        <p:sp>
          <p:nvSpPr>
            <p:cNvPr id="80" name="Afgeronde rechthoek 506"/>
            <p:cNvSpPr/>
            <p:nvPr/>
          </p:nvSpPr>
          <p:spPr>
            <a:xfrm>
              <a:off x="376200" y="27434160"/>
              <a:ext cx="23114160" cy="1182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Rechthoek 507"/>
            <p:cNvSpPr/>
            <p:nvPr/>
          </p:nvSpPr>
          <p:spPr>
            <a:xfrm>
              <a:off x="8358480" y="26514360"/>
              <a:ext cx="7787160" cy="151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Tekstvak 508"/>
            <p:cNvSpPr/>
            <p:nvPr/>
          </p:nvSpPr>
          <p:spPr>
            <a:xfrm>
              <a:off x="8121960" y="26843040"/>
              <a:ext cx="823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Numerical Example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" name="Groep 65"/>
          <p:cNvGrpSpPr/>
          <p:nvPr/>
        </p:nvGrpSpPr>
        <p:grpSpPr>
          <a:xfrm>
            <a:off x="952560" y="22842360"/>
            <a:ext cx="7416720" cy="6640560"/>
            <a:chOff x="952560" y="22842360"/>
            <a:chExt cx="7416720" cy="6640560"/>
          </a:xfrm>
        </p:grpSpPr>
        <p:sp>
          <p:nvSpPr>
            <p:cNvPr id="84" name="Afgeronde rechthoek 510"/>
            <p:cNvSpPr/>
            <p:nvPr/>
          </p:nvSpPr>
          <p:spPr>
            <a:xfrm>
              <a:off x="952560" y="23477400"/>
              <a:ext cx="7416720" cy="600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Rechthoek 511"/>
            <p:cNvSpPr/>
            <p:nvPr/>
          </p:nvSpPr>
          <p:spPr>
            <a:xfrm>
              <a:off x="3184560" y="22842360"/>
              <a:ext cx="3528360" cy="227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Tekstvak 512"/>
            <p:cNvSpPr/>
            <p:nvPr/>
          </p:nvSpPr>
          <p:spPr>
            <a:xfrm>
              <a:off x="3470400" y="23248080"/>
              <a:ext cx="3026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onclusion &amp; future research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7" name="Picture 4" descr=""/>
          <p:cNvPicPr/>
          <p:nvPr/>
        </p:nvPicPr>
        <p:blipFill>
          <a:blip r:embed="rId7"/>
          <a:srcRect l="17725" t="8957" r="14179" b="7464"/>
          <a:stretch/>
        </p:blipFill>
        <p:spPr>
          <a:xfrm>
            <a:off x="1239840" y="28675080"/>
            <a:ext cx="9387000" cy="720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8"/>
          <a:srcRect l="16981" t="9250" r="12933" b="7512"/>
          <a:stretch/>
        </p:blipFill>
        <p:spPr>
          <a:xfrm>
            <a:off x="10745640" y="28729080"/>
            <a:ext cx="9723600" cy="7218360"/>
          </a:xfrm>
          <a:prstGeom prst="rect">
            <a:avLst/>
          </a:prstGeom>
          <a:ln w="0">
            <a:noFill/>
          </a:ln>
        </p:spPr>
      </p:pic>
      <p:grpSp>
        <p:nvGrpSpPr>
          <p:cNvPr id="89" name="Groep 78"/>
          <p:cNvGrpSpPr/>
          <p:nvPr/>
        </p:nvGrpSpPr>
        <p:grpSpPr>
          <a:xfrm>
            <a:off x="17586360" y="36163080"/>
            <a:ext cx="12688920" cy="6468480"/>
            <a:chOff x="17586360" y="36163080"/>
            <a:chExt cx="12688920" cy="6468480"/>
          </a:xfrm>
        </p:grpSpPr>
        <p:grpSp>
          <p:nvGrpSpPr>
            <p:cNvPr id="90" name="Groep 446"/>
            <p:cNvGrpSpPr/>
            <p:nvPr/>
          </p:nvGrpSpPr>
          <p:grpSpPr>
            <a:xfrm>
              <a:off x="17586360" y="36163080"/>
              <a:ext cx="12688920" cy="4897440"/>
              <a:chOff x="17586360" y="36163080"/>
              <a:chExt cx="12688920" cy="4897440"/>
            </a:xfrm>
          </p:grpSpPr>
          <p:sp>
            <p:nvSpPr>
              <p:cNvPr id="91" name="Afgeronde rechthoek 58"/>
              <p:cNvSpPr/>
              <p:nvPr/>
            </p:nvSpPr>
            <p:spPr>
              <a:xfrm>
                <a:off x="17586360" y="36683280"/>
                <a:ext cx="12688920" cy="4377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Rechthoek 59"/>
              <p:cNvSpPr/>
              <p:nvPr/>
            </p:nvSpPr>
            <p:spPr>
              <a:xfrm>
                <a:off x="21620880" y="36163080"/>
                <a:ext cx="4725360" cy="112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a5dec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Tekstvak 449"/>
              <p:cNvSpPr/>
              <p:nvPr/>
            </p:nvSpPr>
            <p:spPr>
              <a:xfrm>
                <a:off x="21816000" y="36509760"/>
                <a:ext cx="426168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3200" spc="-1" strike="noStrike">
                    <a:solidFill>
                      <a:srgbClr val="000000"/>
                    </a:solidFill>
                    <a:latin typeface="Verdana"/>
                  </a:rPr>
                  <a:t>Methodology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4" name="Tekstvak 513"/>
            <p:cNvSpPr/>
            <p:nvPr/>
          </p:nvSpPr>
          <p:spPr>
            <a:xfrm>
              <a:off x="17651160" y="37724400"/>
              <a:ext cx="12363840" cy="49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Sparse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matrix technique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olution for the « steady state explosion » due to multidimensionality,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iterative solution: the Generalized Minimal Residual Method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" name="Tekstvak 500"/>
          <p:cNvSpPr/>
          <p:nvPr/>
        </p:nvSpPr>
        <p:spPr>
          <a:xfrm>
            <a:off x="18594360" y="20069280"/>
            <a:ext cx="5832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ep 66"/>
          <p:cNvGrpSpPr/>
          <p:nvPr/>
        </p:nvGrpSpPr>
        <p:grpSpPr>
          <a:xfrm>
            <a:off x="20898000" y="25650720"/>
            <a:ext cx="7273800" cy="9001080"/>
            <a:chOff x="20898000" y="25650720"/>
            <a:chExt cx="7273800" cy="9001080"/>
          </a:xfrm>
        </p:grpSpPr>
        <p:sp>
          <p:nvSpPr>
            <p:cNvPr id="97" name="Afgeronde rechthoek 67"/>
            <p:cNvSpPr/>
            <p:nvPr/>
          </p:nvSpPr>
          <p:spPr>
            <a:xfrm>
              <a:off x="20898000" y="26182440"/>
              <a:ext cx="7273800" cy="8469360"/>
            </a:xfrm>
            <a:custGeom>
              <a:avLst/>
              <a:gdLst>
                <a:gd name="textAreaLeft" fmla="*/ 354960 w 7273800"/>
                <a:gd name="textAreaRight" fmla="*/ 6918840 w 7273800"/>
                <a:gd name="textAreaTop" fmla="*/ 354960 h 8469360"/>
                <a:gd name="textAreaBottom" fmla="*/ 8114400 h 8469360"/>
              </a:gdLst>
              <a:ahLst/>
              <a:rect l="textAreaLeft" t="textAreaTop" r="textAreaRight" b="textAreaBottom"/>
              <a:pathLst>
                <a:path w="21600" h="25150">
                  <a:moveTo>
                    <a:pt x="3600" y="0"/>
                  </a:moveTo>
                  <a:arcTo wR="3600" hR="3600" stAng="16200000" swAng="-5400000"/>
                  <a:lnTo>
                    <a:pt x="0" y="21550"/>
                  </a:lnTo>
                  <a:arcTo wR="3600" hR="3600" stAng="10800000" swAng="-5400000"/>
                  <a:lnTo>
                    <a:pt x="18000" y="25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hthoek 68"/>
            <p:cNvSpPr/>
            <p:nvPr/>
          </p:nvSpPr>
          <p:spPr>
            <a:xfrm>
              <a:off x="22194360" y="25650720"/>
              <a:ext cx="4179960" cy="12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kstvak 512"/>
            <p:cNvSpPr/>
            <p:nvPr/>
          </p:nvSpPr>
          <p:spPr>
            <a:xfrm>
              <a:off x="22410360" y="25938720"/>
              <a:ext cx="358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arameter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Groep 70"/>
          <p:cNvGrpSpPr/>
          <p:nvPr/>
        </p:nvGrpSpPr>
        <p:grpSpPr>
          <a:xfrm>
            <a:off x="1455840" y="36236160"/>
            <a:ext cx="16057440" cy="4824360"/>
            <a:chOff x="1455840" y="36236160"/>
            <a:chExt cx="16057440" cy="4824360"/>
          </a:xfrm>
        </p:grpSpPr>
        <p:sp>
          <p:nvSpPr>
            <p:cNvPr id="101" name="Afgeronde rechthoek 71"/>
            <p:cNvSpPr/>
            <p:nvPr/>
          </p:nvSpPr>
          <p:spPr>
            <a:xfrm>
              <a:off x="1455840" y="36589320"/>
              <a:ext cx="16057440" cy="4471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hthoek 72"/>
            <p:cNvSpPr/>
            <p:nvPr/>
          </p:nvSpPr>
          <p:spPr>
            <a:xfrm>
              <a:off x="5820840" y="36236160"/>
              <a:ext cx="76388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7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kstvak 512"/>
            <p:cNvSpPr/>
            <p:nvPr/>
          </p:nvSpPr>
          <p:spPr>
            <a:xfrm>
              <a:off x="6129360" y="36449640"/>
              <a:ext cx="65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Result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Tekstvak 74"/>
          <p:cNvSpPr/>
          <p:nvPr/>
        </p:nvSpPr>
        <p:spPr>
          <a:xfrm>
            <a:off x="21042360" y="27378000"/>
            <a:ext cx="7345440" cy="75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300" spc="-1" strike="noStrike">
                <a:solidFill>
                  <a:srgbClr val="92d050"/>
                </a:solidFill>
                <a:latin typeface="Verdana"/>
              </a:rPr>
              <a:t>Base Model 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0.8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= 0.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300" spc="-1" strike="noStrike">
                <a:solidFill>
                  <a:srgbClr val="000000"/>
                </a:solidFill>
                <a:latin typeface="Verdana"/>
              </a:rPr>
              <a:t>Model 1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fr-BE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BE" sz="3000" spc="-1" strike="noStrike" baseline="30000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2               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0.2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= 0.8             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0.166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300" spc="-1" strike="noStrike">
                <a:solidFill>
                  <a:srgbClr val="0070c0"/>
                </a:solidFill>
                <a:latin typeface="Verdana"/>
              </a:rPr>
              <a:t>Model 2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1" lang="fr-BE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fr-BE" sz="3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[0 2 0 2]     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1" lang="fr-BE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fr-BE" sz="3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[0 0 2 2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kstvak 83"/>
          <p:cNvSpPr/>
          <p:nvPr/>
        </p:nvSpPr>
        <p:spPr>
          <a:xfrm>
            <a:off x="24442560" y="15352560"/>
            <a:ext cx="5832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For part 1 in </a:t>
            </a:r>
            <a:r>
              <a:rPr b="1" lang="fr-BE" sz="3300" spc="-1" strike="noStrike">
                <a:solidFill>
                  <a:srgbClr val="000000"/>
                </a:solidFill>
                <a:latin typeface="Verdana"/>
              </a:rPr>
              <a:t>Model 1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 and part 1 &amp; 2 in </a:t>
            </a:r>
            <a:r>
              <a:rPr b="1" lang="fr-BE" sz="3300" spc="-1" strike="noStrike">
                <a:solidFill>
                  <a:srgbClr val="00b0f0"/>
                </a:solidFill>
                <a:latin typeface="Verdana"/>
              </a:rPr>
              <a:t>Model 2</a:t>
            </a:r>
            <a:r>
              <a:rPr b="0" lang="fr-BE" sz="33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we assume a 40 % effective production time. The time length is equal to 10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To ensure a same total 80% production time the « interrupted » parts arrive at an intensity equal to 2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kstvak 500"/>
          <p:cNvSpPr/>
          <p:nvPr/>
        </p:nvSpPr>
        <p:spPr>
          <a:xfrm>
            <a:off x="24282360" y="10744200"/>
            <a:ext cx="540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kstvak 500"/>
          <p:cNvSpPr/>
          <p:nvPr/>
        </p:nvSpPr>
        <p:spPr>
          <a:xfrm>
            <a:off x="2247840" y="19961280"/>
            <a:ext cx="7705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of part 1: Interrupted Poiss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 of part 2: Poiss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kstvak 86"/>
          <p:cNvSpPr/>
          <p:nvPr/>
        </p:nvSpPr>
        <p:spPr>
          <a:xfrm>
            <a:off x="1816200" y="37676160"/>
            <a:ext cx="156258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The bigger the capacity, the smaller probability that buffer 1 is full,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Impact of interruptions in the production of part 1 larger on buffer 2 than on its own buffer,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Adding a production interrupted component to part 2 doesn’t have a significant impact on the probability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fgeronde rechthoek 1"/>
          <p:cNvSpPr/>
          <p:nvPr/>
        </p:nvSpPr>
        <p:spPr>
          <a:xfrm>
            <a:off x="520560" y="25650720"/>
            <a:ext cx="28225800" cy="12193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line</cp:lastModifiedBy>
  <cp:lastPrinted>2000-03-21T09:19:16Z</cp:lastPrinted>
  <dcterms:modified xsi:type="dcterms:W3CDTF">2010-09-10T15:48:29Z</dcterms:modified>
  <cp:revision>241</cp:revision>
  <dc:subject/>
  <dc:title>No Slide Title</dc:title>
</cp:coreProperties>
</file>