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5213" cy="42803763"/>
  <p:notesSz cx="29818013" cy="42343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29818800" cy="423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29222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6890840" y="-360"/>
            <a:ext cx="1292256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40217760"/>
            <a:ext cx="129222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FEAD-2FA1-4345-AB49-E7ADCBE7B538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0B42-6839-4E32-9769-BD895421BD3F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342-9DCB-4474-9D45-3788BE16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77D-1507-4675-81FA-C3744CD9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8CC-D562-46C1-ABFE-B06C564E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9746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6758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734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09746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96758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64B-8A9D-479F-8958-F38A47CD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24"/>
              </a:spcBef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C29-9AE6-4FB7-B505-800D0EE7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862-AE14-4304-A1EA-6109ABD1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B7E-1F8B-4316-9542-2330574E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BCC-9346-4F2B-8A00-CE125CF7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73400" y="3804840"/>
            <a:ext cx="2573496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24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C91-63F7-4CFA-A272-AD8B2920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FF6-307C-456A-A5E2-8C326850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DDE-D067-449B-8FE0-CC7B2874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51C-2B3C-407A-950D-A7E07728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c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marL="1455840" indent="-145584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4320" indent="-121284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2" marL="4851360" indent="-96660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3" marL="6794640" indent="-96840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4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5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6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340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7480" y="38998080"/>
            <a:ext cx="958032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94680" y="38998080"/>
            <a:ext cx="631368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765F-6E2D-4D42-B6CF-8EC69C02FFF5}" type="slidenum"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LaserCircles_bgr2"/>
          <p:cNvPicPr/>
          <p:nvPr/>
        </p:nvPicPr>
        <p:blipFill>
          <a:blip r:embed="rId2"/>
          <a:srcRect l="0" t="429" r="0" b="0"/>
          <a:stretch/>
        </p:blipFill>
        <p:spPr>
          <a:xfrm>
            <a:off x="0" y="0"/>
            <a:ext cx="30275280" cy="4280364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2"/>
          <p:cNvGrpSpPr/>
          <p:nvPr/>
        </p:nvGrpSpPr>
        <p:grpSpPr>
          <a:xfrm>
            <a:off x="0" y="1089000"/>
            <a:ext cx="6784920" cy="2448000"/>
            <a:chOff x="0" y="1089000"/>
            <a:chExt cx="6784920" cy="2448000"/>
          </a:xfrm>
        </p:grpSpPr>
        <p:pic>
          <p:nvPicPr>
            <p:cNvPr id="7" name="Picture 10" descr="UGent_blauwegraffitihelft"/>
            <p:cNvPicPr/>
            <p:nvPr/>
          </p:nvPicPr>
          <p:blipFill>
            <a:blip r:embed="rId3"/>
            <a:stretch/>
          </p:blipFill>
          <p:spPr>
            <a:xfrm>
              <a:off x="0" y="1092240"/>
              <a:ext cx="33256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" descr="UGent_blauwlogo"/>
            <p:cNvPicPr/>
            <p:nvPr/>
          </p:nvPicPr>
          <p:blipFill>
            <a:blip r:embed="rId4"/>
            <a:stretch/>
          </p:blipFill>
          <p:spPr>
            <a:xfrm>
              <a:off x="3330720" y="1089000"/>
              <a:ext cx="3454200" cy="24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Picture 13" descr="firw_nl"/>
          <p:cNvPicPr/>
          <p:nvPr/>
        </p:nvPicPr>
        <p:blipFill>
          <a:blip r:embed="rId5"/>
          <a:stretch/>
        </p:blipFill>
        <p:spPr>
          <a:xfrm>
            <a:off x="3400560" y="4192560"/>
            <a:ext cx="3313080" cy="309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7143840" y="1095480"/>
            <a:ext cx="2176308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8000" spc="-1" strike="noStrike">
                <a:solidFill>
                  <a:srgbClr val="164a7c"/>
                </a:solidFill>
                <a:latin typeface="Verdana"/>
              </a:rPr>
              <a:t>Analysis and performance evaluation of</a:t>
            </a:r>
            <a:r>
              <a:rPr b="0" lang="en-US" sz="9600" spc="-1" strike="noStrike">
                <a:solidFill>
                  <a:srgbClr val="164a7c"/>
                </a:solidFill>
                <a:latin typeface="Verdana"/>
              </a:rPr>
              <a:t> </a:t>
            </a:r>
            <a:br>
              <a:rPr sz="9600"/>
            </a:br>
            <a:r>
              <a:rPr b="0" lang="en-US" sz="12000" spc="-1" strike="noStrike">
                <a:solidFill>
                  <a:srgbClr val="164a7c"/>
                </a:solidFill>
                <a:latin typeface="Verdana"/>
              </a:rPr>
              <a:t>Kitting Processes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393640" y="4551480"/>
            <a:ext cx="175132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Eline De Cuypere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104"/>
          <p:cNvSpPr/>
          <p:nvPr/>
        </p:nvSpPr>
        <p:spPr>
          <a:xfrm>
            <a:off x="10169640" y="8080200"/>
            <a:ext cx="1663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MACS research 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artment of Telecommunication and Information Proces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.-Pietersnieuwstraat 41, 9000 Gent; Eline.DeCuypere@UGent.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53"/>
          <p:cNvSpPr/>
          <p:nvPr/>
        </p:nvSpPr>
        <p:spPr>
          <a:xfrm>
            <a:off x="14025600" y="209343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03"/>
          <p:cNvSpPr/>
          <p:nvPr/>
        </p:nvSpPr>
        <p:spPr>
          <a:xfrm>
            <a:off x="14608080" y="1976292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23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58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62"/>
          <p:cNvSpPr/>
          <p:nvPr/>
        </p:nvSpPr>
        <p:spPr>
          <a:xfrm>
            <a:off x="0" y="0"/>
            <a:ext cx="21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63"/>
          <p:cNvSpPr/>
          <p:nvPr/>
        </p:nvSpPr>
        <p:spPr>
          <a:xfrm>
            <a:off x="0" y="4827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4"/>
          <p:cNvSpPr/>
          <p:nvPr/>
        </p:nvSpPr>
        <p:spPr>
          <a:xfrm>
            <a:off x="1800" y="745920"/>
            <a:ext cx="266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354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469" descr="SMACSlogo_vierkant"/>
          <p:cNvPicPr/>
          <p:nvPr/>
        </p:nvPicPr>
        <p:blipFill>
          <a:blip r:embed="rId1"/>
          <a:stretch/>
        </p:blipFill>
        <p:spPr>
          <a:xfrm>
            <a:off x="27182880" y="8155080"/>
            <a:ext cx="1511280" cy="138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43"/>
          <p:cNvSpPr/>
          <p:nvPr/>
        </p:nvSpPr>
        <p:spPr>
          <a:xfrm>
            <a:off x="8872560" y="6640560"/>
            <a:ext cx="2003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joint work with Dieter Fiems and Herwig Brunee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28" descr=""/>
          <p:cNvPicPr/>
          <p:nvPr/>
        </p:nvPicPr>
        <p:blipFill>
          <a:blip r:embed="rId2"/>
          <a:stretch/>
        </p:blipFill>
        <p:spPr>
          <a:xfrm>
            <a:off x="19089720" y="15425640"/>
            <a:ext cx="9872640" cy="6137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30" descr=""/>
          <p:cNvPicPr/>
          <p:nvPr/>
        </p:nvPicPr>
        <p:blipFill>
          <a:blip r:embed="rId3"/>
          <a:stretch/>
        </p:blipFill>
        <p:spPr>
          <a:xfrm>
            <a:off x="19026360" y="10528200"/>
            <a:ext cx="10080360" cy="459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31" descr=""/>
          <p:cNvPicPr/>
          <p:nvPr/>
        </p:nvPicPr>
        <p:blipFill>
          <a:blip r:embed="rId4"/>
          <a:stretch/>
        </p:blipFill>
        <p:spPr>
          <a:xfrm>
            <a:off x="19026360" y="21977280"/>
            <a:ext cx="10225080" cy="823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38:16Z</dcterms:created>
  <dc:creator>TELIN</dc:creator>
  <dc:description/>
  <dc:language>en-US</dc:language>
  <cp:lastModifiedBy>Eline</cp:lastModifiedBy>
  <cp:lastPrinted>2000-03-21T09:19:16Z</cp:lastPrinted>
  <dcterms:modified xsi:type="dcterms:W3CDTF">2010-09-10T08:53:05Z</dcterms:modified>
  <cp:revision>204</cp:revision>
  <dc:subject/>
  <dc:title>No Slide Title</dc:title>
</cp:coreProperties>
</file>