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9BC-DDAD-45A2-9900-58EDC423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282-5D17-4ACB-9FC3-A2935E53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F93-29FB-420F-9378-C66B9E7E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F807-50DE-474F-8FDB-29DA6591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51A-225F-438A-9CA8-3C318566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12D-30C3-45C2-9736-E3002E57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99E-5B8F-4A7F-90B7-50E57E71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B3D-130A-487A-8B03-D1C4705D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B281-8A9F-4AB2-BCA8-4D9EDE23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36C-C052-4560-9DCB-6AA067E4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774-1708-4B9F-A963-D766E2DC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C41-4ABC-4B89-9894-4C128CF3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E3BB-1C17-413C-A3CD-97E78A10F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S 5253 Workshop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Protocol and Traff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Re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 to the new packets, the stations also generate retransmissions of packets that previously suffered coll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cket (new + retransmitte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ed is als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isson with me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 packe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3625920" y="5029200"/>
                <a:ext cx="234936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betwe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l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ow load, few colli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high load, many colli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all load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robability that a packet does not suffer a coll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0"/>
              <p:cNvSpPr txBox="1"/>
              <p:nvPr/>
            </p:nvSpPr>
            <p:spPr>
              <a:xfrm>
                <a:off x="2971800" y="2057400"/>
                <a:ext cx="1117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≥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"/>
              <p:cNvSpPr txBox="1"/>
              <p:nvPr/>
            </p:nvSpPr>
            <p:spPr>
              <a:xfrm>
                <a:off x="6095880" y="2590920"/>
                <a:ext cx="1117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≈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6400800" y="3200400"/>
                <a:ext cx="1117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&g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3962520" y="4267080"/>
                <a:ext cx="14317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ulnerable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what conditions will the shaded packet arrive undamag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C:\net_figure\4-2.jpg"/>
          <p:cNvPicPr/>
          <p:nvPr/>
        </p:nvPicPr>
        <p:blipFill>
          <a:blip r:embed="rId1"/>
          <a:stretch/>
        </p:blipFill>
        <p:spPr>
          <a:xfrm>
            <a:off x="1066680" y="2743200"/>
            <a:ext cx="69343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ulnerable period: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2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of no other packet generated during the vulnerable period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= G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352680" y="3733920"/>
                <a:ext cx="1828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3429000" y="5486400"/>
                <a:ext cx="1981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betwe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C:\net_figure\4-3.jpg"/>
          <p:cNvPicPr/>
          <p:nvPr/>
        </p:nvPicPr>
        <p:blipFill>
          <a:blip r:embed="rId1"/>
          <a:stretch/>
        </p:blipFill>
        <p:spPr>
          <a:xfrm>
            <a:off x="762120" y="1523880"/>
            <a:ext cx="7238880" cy="3448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914400" y="51055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throughput occurs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5,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0.18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, max. channel utilization is 18.4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otted ALO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time up into discrete intervals, each corresponding to one pac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ulnerable period is now reduced in ha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no other packet generated during the vulnerable period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4495680" y="4038480"/>
                <a:ext cx="17082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G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2819520" y="5257800"/>
                <a:ext cx="1863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G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rier S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ituations, stations can tell if the channel is in use before trying to us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channel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n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s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tation will attempt to use it until it goes i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basic idea of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rrier Sense Multiple Access (CSMA) protoc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MA Protoc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different variations of the CSMA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persistent C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persistent C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ersistent C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iscuss only 1-persistent CS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persistent CS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toc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s before trans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annel busy, waits until channel i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annel idle, trans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ollision occurs, waits a random amount of time and starts all over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alled 1-persistent because the station transmits with a probability of 1 whenever it finds the channel id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C:\net_figure\4-4.jpg"/>
          <p:cNvPicPr/>
          <p:nvPr/>
        </p:nvPicPr>
        <p:blipFill>
          <a:blip r:embed="rId1"/>
          <a:stretch/>
        </p:blipFill>
        <p:spPr>
          <a:xfrm>
            <a:off x="762120" y="1905120"/>
            <a:ext cx="7543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familiar with OPNET, a tool for network simul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PNET to study CSMA/CD channel access and traffic mode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seph L. Hammond, and Petter J. P. O’Reilly, Performance Analysis of Local Computer Networks, Addison_Wesley Publishing Company,198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ry N. Higginbottom, Performance Evaluation of Communication Networks, Artech House,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MA/CD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wo stations transmits simultaneously, they will both detect the collision almost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finish transmitting their packets, the stations shoul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stop transmitting as soon as the collision is de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tocol is call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SMA with collision detection (CSMA/C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ff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-Bit-Rate Traff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traditional (circuit-switched)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Off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packetized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ss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traditional data traffi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rupted Poisson Process (IP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bursty data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ov Modulated Poisson Process (MMP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multimedia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ant-Bit-Rate Traff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s are generated at a constant bit r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828800" y="40384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2438280" y="40384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048120" y="4038480"/>
            <a:ext cx="533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657600" y="40384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4267080" y="40384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4876920" y="4038480"/>
            <a:ext cx="533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486400" y="40384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219320" y="4952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7"/>
          <p:cNvSpPr/>
          <p:nvPr/>
        </p:nvSpPr>
        <p:spPr>
          <a:xfrm flipV="1">
            <a:off x="1828800" y="41911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 flipV="1">
            <a:off x="1828800" y="426672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-Off 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2362320" y="2666880"/>
            <a:ext cx="15238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5943600" y="2666880"/>
            <a:ext cx="15238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81952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324480" y="3200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9"/>
          <p:cNvCxnSpPr>
            <a:stCxn id="109" idx="7"/>
            <a:endCxn id="110" idx="1"/>
          </p:cNvCxnSpPr>
          <p:nvPr/>
        </p:nvCxnSpPr>
        <p:spPr>
          <a:xfrm flipH="1" rot="16200000">
            <a:off x="4913640" y="1626840"/>
            <a:ext cx="2520" cy="2505960"/>
          </a:xfrm>
          <a:prstGeom prst="curvedConnector5">
            <a:avLst>
              <a:gd name="adj1" fmla="val -27800000"/>
              <a:gd name="adj2" fmla="val 50000"/>
              <a:gd name="adj3" fmla="val -278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10"/>
          <p:cNvCxnSpPr>
            <a:stCxn id="110" idx="3"/>
            <a:endCxn id="109" idx="5"/>
          </p:cNvCxnSpPr>
          <p:nvPr/>
        </p:nvCxnSpPr>
        <p:spPr>
          <a:xfrm rot="5400000">
            <a:off x="4913280" y="2649960"/>
            <a:ext cx="2520" cy="2505960"/>
          </a:xfrm>
          <a:prstGeom prst="curvedConnector5">
            <a:avLst>
              <a:gd name="adj1" fmla="val 27800000"/>
              <a:gd name="adj2" fmla="val 50000"/>
              <a:gd name="adj3" fmla="val 278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5" name="Object 0"/>
              <p:cNvSpPr txBox="1"/>
              <p:nvPr/>
            </p:nvSpPr>
            <p:spPr>
              <a:xfrm>
                <a:off x="4724280" y="449568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Text Box 12"/>
          <p:cNvSpPr/>
          <p:nvPr/>
        </p:nvSpPr>
        <p:spPr>
          <a:xfrm>
            <a:off x="5241960" y="27846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"/>
              <p:cNvSpPr txBox="1"/>
              <p:nvPr/>
            </p:nvSpPr>
            <p:spPr>
              <a:xfrm>
                <a:off x="4648320" y="1905120"/>
                <a:ext cx="325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Text Box 14"/>
          <p:cNvSpPr/>
          <p:nvPr/>
        </p:nvSpPr>
        <p:spPr>
          <a:xfrm>
            <a:off x="144792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tant bit ra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143000" y="419112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y in ON state for a period exponentially distributed with mean 1/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6324480" y="411480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y in OFF state for a period exponentially distributed with mean 1/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-Off 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09480" y="31240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219320" y="3124080"/>
            <a:ext cx="533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828800" y="31240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438280" y="31240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5638680" y="31240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248520" y="3124080"/>
            <a:ext cx="533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6858000" y="31240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609480" y="4191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685800" y="43434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with mean 1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3048120" y="4191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276720" y="4343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with mean 1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14479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8098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617220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-Off 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mean bit rate.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n-off source is usually specified by the 3 parameter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1/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ean burst length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3048120" y="2590920"/>
                <a:ext cx="2743200" cy="17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αR</m:t>
                        </m:r>
                      </m:num>
                      <m:den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ss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sson process with rate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rrival time is exponentially distributed mean 1/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523880" y="40384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819520" y="4038480"/>
            <a:ext cx="533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4876920" y="4038480"/>
            <a:ext cx="533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943600" y="40384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2057400" y="4724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3352680" y="4724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541008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6668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rriv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 flipH="1" flipV="1">
            <a:off x="2437920" y="48769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6"/>
          <p:cNvSpPr/>
          <p:nvPr/>
        </p:nvSpPr>
        <p:spPr>
          <a:xfrm flipV="1">
            <a:off x="3657600" y="48769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7"/>
          <p:cNvSpPr/>
          <p:nvPr/>
        </p:nvSpPr>
        <p:spPr>
          <a:xfrm flipV="1">
            <a:off x="4343400" y="48769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rupted Poisson Process (IP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2362320" y="2666880"/>
            <a:ext cx="15238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5943600" y="2666880"/>
            <a:ext cx="15238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81952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6324480" y="3200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AutoShape 8"/>
          <p:cNvCxnSpPr>
            <a:stCxn id="153" idx="7"/>
            <a:endCxn id="154" idx="1"/>
          </p:cNvCxnSpPr>
          <p:nvPr/>
        </p:nvCxnSpPr>
        <p:spPr>
          <a:xfrm flipH="1" rot="16200000">
            <a:off x="4913640" y="1626840"/>
            <a:ext cx="2520" cy="2505960"/>
          </a:xfrm>
          <a:prstGeom prst="curvedConnector5">
            <a:avLst>
              <a:gd name="adj1" fmla="val -27800000"/>
              <a:gd name="adj2" fmla="val 50000"/>
              <a:gd name="adj3" fmla="val -278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9"/>
          <p:cNvCxnSpPr>
            <a:stCxn id="154" idx="3"/>
            <a:endCxn id="153" idx="5"/>
          </p:cNvCxnSpPr>
          <p:nvPr/>
        </p:nvCxnSpPr>
        <p:spPr>
          <a:xfrm rot="5400000">
            <a:off x="4913280" y="2649960"/>
            <a:ext cx="2520" cy="2505960"/>
          </a:xfrm>
          <a:prstGeom prst="curvedConnector5">
            <a:avLst>
              <a:gd name="adj1" fmla="val 27800000"/>
              <a:gd name="adj2" fmla="val 50000"/>
              <a:gd name="adj3" fmla="val 278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4724280" y="449568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Text Box 11"/>
          <p:cNvSpPr/>
          <p:nvPr/>
        </p:nvSpPr>
        <p:spPr>
          <a:xfrm>
            <a:off x="5241960" y="27846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4648320" y="1905120"/>
                <a:ext cx="325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Text Box 13"/>
          <p:cNvSpPr/>
          <p:nvPr/>
        </p:nvSpPr>
        <p:spPr>
          <a:xfrm>
            <a:off x="990720" y="19810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isson process with rate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1143000" y="419112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y in ON state for a period exponentially distributed with mean 1/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6324480" y="411480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y in OFF state for a period exponentially distributed with mean 1/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ov Modulated Poisson Process (MMP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3-state MM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3429000" y="35812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5410080" y="502920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6248520" y="31240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523880" y="3124080"/>
            <a:ext cx="2210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isson process with rate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AutoShape 9"/>
          <p:cNvCxnSpPr>
            <a:stCxn id="167" idx="7"/>
            <a:endCxn id="169" idx="1"/>
          </p:cNvCxnSpPr>
          <p:nvPr/>
        </p:nvCxnSpPr>
        <p:spPr>
          <a:xfrm flipH="1" flipV="1" rot="5400000">
            <a:off x="5142960" y="2475720"/>
            <a:ext cx="457920" cy="2064600"/>
          </a:xfrm>
          <a:prstGeom prst="curvedConnector5">
            <a:avLst>
              <a:gd name="adj1" fmla="val 183949"/>
              <a:gd name="adj2" fmla="val 50000"/>
              <a:gd name="adj3" fmla="val 1839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AutoShape 10"/>
          <p:cNvCxnSpPr/>
          <p:nvPr/>
        </p:nvCxnSpPr>
        <p:spPr>
          <a:xfrm flipV="1" rot="10800000">
            <a:off x="4494960" y="3657240"/>
            <a:ext cx="175356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AutoShape 12"/>
          <p:cNvCxnSpPr>
            <a:stCxn id="167" idx="5"/>
            <a:endCxn id="168" idx="1"/>
          </p:cNvCxnSpPr>
          <p:nvPr/>
        </p:nvCxnSpPr>
        <p:spPr>
          <a:xfrm flipH="1" rot="16200000">
            <a:off x="4606920" y="4225680"/>
            <a:ext cx="692640" cy="1226160"/>
          </a:xfrm>
          <a:prstGeom prst="curvedConnector5">
            <a:avLst>
              <a:gd name="adj1" fmla="val 49973"/>
              <a:gd name="adj2" fmla="val 49985"/>
              <a:gd name="adj3" fmla="val 49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AutoShape 13"/>
          <p:cNvCxnSpPr>
            <a:stCxn id="168" idx="3"/>
            <a:endCxn id="167" idx="4"/>
          </p:cNvCxnSpPr>
          <p:nvPr/>
        </p:nvCxnSpPr>
        <p:spPr>
          <a:xfrm flipV="1" rot="16200000">
            <a:off x="4117320" y="4492080"/>
            <a:ext cx="1292760" cy="1603800"/>
          </a:xfrm>
          <a:prstGeom prst="curvedConnector5">
            <a:avLst>
              <a:gd name="adj1" fmla="val -29721"/>
              <a:gd name="adj2" fmla="val 50000"/>
              <a:gd name="adj3" fmla="val -297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AutoShape 14"/>
          <p:cNvCxnSpPr>
            <a:stCxn id="168" idx="7"/>
            <a:endCxn id="169" idx="4"/>
          </p:cNvCxnSpPr>
          <p:nvPr/>
        </p:nvCxnSpPr>
        <p:spPr>
          <a:xfrm flipH="1" flipV="1" rot="5400000">
            <a:off x="6054840" y="4457880"/>
            <a:ext cx="993960" cy="460800"/>
          </a:xfrm>
          <a:prstGeom prst="curvedConnector5">
            <a:avLst>
              <a:gd name="adj1" fmla="val 57826"/>
              <a:gd name="adj2" fmla="val 49960"/>
              <a:gd name="adj3" fmla="val 57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AutoShape 15"/>
          <p:cNvCxnSpPr>
            <a:stCxn id="169" idx="5"/>
            <a:endCxn id="168" idx="6"/>
          </p:cNvCxnSpPr>
          <p:nvPr/>
        </p:nvCxnSpPr>
        <p:spPr>
          <a:xfrm rot="5400000">
            <a:off x="6054480" y="4457880"/>
            <a:ext cx="1527840" cy="682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Text Box 16"/>
          <p:cNvSpPr/>
          <p:nvPr/>
        </p:nvSpPr>
        <p:spPr>
          <a:xfrm>
            <a:off x="37339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66294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5791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6324480" y="2133720"/>
            <a:ext cx="2210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isson process with rate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6629400" y="5410080"/>
            <a:ext cx="220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isson process with rate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4114800" y="2743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5257800" y="3200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4495680" y="4724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3657600" y="5410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7238880" y="4191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5943600" y="41911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762120" y="4267080"/>
            <a:ext cx="2361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y in stat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for a period exponentially distributed with mean 1/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line for Using op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should read the material “Introduction of opnet”, and “Small internet work” before start Aloha tutoria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rcise 1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Individual work, 5% percent for semester B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trying “Small internet work” , do a further study on the following ca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any has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loor which contains another 15 computers of the same type connected with a st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hand in a hard copy of the figures about the delay and lo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(Due week3/week4 on Monda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um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um Access Control (MAC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share a common medium among the us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layer is very important in LANs, nearly all of which use a multiaccess channel as the basis of their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OHA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OHA is developed in the 1970s at the University of Hawai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idea is 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t users transmit whenever they have data to be 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or more users send their packets at the same time, a collision occurs and the packets are destroy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OHA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a collis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nder waits a random amount of time and sends it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iting time must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Otherwise, the same packets will collide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ketch of Frame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:\net_figure\4-1.jpg"/>
          <p:cNvPicPr/>
          <p:nvPr/>
        </p:nvPicPr>
        <p:blipFill>
          <a:blip r:embed="rId1"/>
          <a:stretch/>
        </p:blipFill>
        <p:spPr>
          <a:xfrm>
            <a:off x="1828800" y="1752480"/>
            <a:ext cx="5181480" cy="3216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990720" y="50292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all packets have the same length because the throughput of ALOHA systems is maximized by having a uniform packet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ughp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packets successfully transmitted through the channel per packe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hroughput of an ALOHA chann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inite population of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rames are generated according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isson distrib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me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ets per packet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ckets are generated during a given packet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3657600" y="502920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ervation o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1, packets are generated at a higher rate than the channel can han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we ex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channel can handle all the packets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through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03:15:29Z</dcterms:created>
  <dc:creator>CS</dc:creator>
  <dc:description/>
  <dc:language>en-US</dc:language>
  <cp:lastModifiedBy>UGent</cp:lastModifiedBy>
  <dcterms:modified xsi:type="dcterms:W3CDTF">2009-10-02T11:04:29Z</dcterms:modified>
  <cp:revision>33</cp:revision>
  <dc:subject/>
  <dc:title>PowerPoint Presentation</dc:title>
</cp:coreProperties>
</file>