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1EB3-2115-4AC4-B5A7-C1F318122CE8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AB78-FB43-4D9A-BC1E-995858F8EFF7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285-B667-4366-85AA-78BB88F5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E9D-2261-4268-9552-6EF37ED8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0BD-41B3-4C2D-99D2-88B86126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F87-942F-4E90-9F66-020272AC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2A7-2222-42B1-A8B7-DF78BE6D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E75-157E-48A9-B199-EB0030F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B59-54C3-40F1-B87B-C2FA450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27F-4781-4F3C-8EF1-02C8A070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C9D-C66B-4223-8AE8-9E5AB067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BE5-1052-4DF8-BD23-DD9CFF12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B51-5FA5-4469-9433-471B4C1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23A-69D0-4A57-8D5B-EDAC5226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DB6-8AF8-42F2-9C2E-5EF2F2C30C33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fgeronde rechthoek 438"/>
          <p:cNvSpPr/>
          <p:nvPr/>
        </p:nvSpPr>
        <p:spPr>
          <a:xfrm>
            <a:off x="231840" y="10528200"/>
            <a:ext cx="29827440" cy="1202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hthoek 441"/>
          <p:cNvSpPr/>
          <p:nvPr/>
        </p:nvSpPr>
        <p:spPr>
          <a:xfrm>
            <a:off x="4695840" y="9952200"/>
            <a:ext cx="5329080" cy="108108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kstvak 442"/>
          <p:cNvSpPr/>
          <p:nvPr/>
        </p:nvSpPr>
        <p:spPr>
          <a:xfrm>
            <a:off x="4840200" y="1016784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2"/>
          <a:stretch/>
        </p:blipFill>
        <p:spPr>
          <a:xfrm>
            <a:off x="10817280" y="16144920"/>
            <a:ext cx="8431200" cy="468144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14778000" y="2017728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part 1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095480" y="17010000"/>
            <a:ext cx="7634160" cy="3313080"/>
            <a:chOff x="1095480" y="17010000"/>
            <a:chExt cx="7634160" cy="3313080"/>
          </a:xfrm>
        </p:grpSpPr>
        <p:pic>
          <p:nvPicPr>
            <p:cNvPr id="72" name="Picture 433" descr=""/>
            <p:cNvPicPr/>
            <p:nvPr/>
          </p:nvPicPr>
          <p:blipFill>
            <a:blip r:embed="rId3"/>
            <a:stretch/>
          </p:blipFill>
          <p:spPr>
            <a:xfrm>
              <a:off x="1095480" y="17010000"/>
              <a:ext cx="763416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4"/>
            <a:stretch/>
          </p:blipFill>
          <p:spPr>
            <a:xfrm>
              <a:off x="2891520" y="17056440"/>
              <a:ext cx="831240" cy="37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444" descr=""/>
          <p:cNvPicPr/>
          <p:nvPr/>
        </p:nvPicPr>
        <p:blipFill>
          <a:blip r:embed="rId5"/>
          <a:stretch/>
        </p:blipFill>
        <p:spPr>
          <a:xfrm>
            <a:off x="20682000" y="15857640"/>
            <a:ext cx="8353440" cy="6203880"/>
          </a:xfrm>
          <a:prstGeom prst="rect">
            <a:avLst/>
          </a:prstGeom>
          <a:ln w="0">
            <a:noFill/>
          </a:ln>
        </p:spPr>
      </p:pic>
      <p:sp>
        <p:nvSpPr>
          <p:cNvPr id="75" name="Tekstvak 500"/>
          <p:cNvSpPr/>
          <p:nvPr/>
        </p:nvSpPr>
        <p:spPr>
          <a:xfrm>
            <a:off x="22842360" y="14201640"/>
            <a:ext cx="5832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hthoek 80"/>
          <p:cNvSpPr/>
          <p:nvPr/>
        </p:nvSpPr>
        <p:spPr>
          <a:xfrm>
            <a:off x="20970720" y="10024920"/>
            <a:ext cx="4319640" cy="100836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kstvak 81"/>
          <p:cNvSpPr/>
          <p:nvPr/>
        </p:nvSpPr>
        <p:spPr>
          <a:xfrm>
            <a:off x="20682000" y="1002492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Mod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kstvak 500"/>
          <p:cNvSpPr/>
          <p:nvPr/>
        </p:nvSpPr>
        <p:spPr>
          <a:xfrm>
            <a:off x="1312920" y="1430964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4"/>
          <p:cNvSpPr/>
          <p:nvPr/>
        </p:nvSpPr>
        <p:spPr>
          <a:xfrm>
            <a:off x="0" y="109548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6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" name="Groep 505"/>
          <p:cNvGrpSpPr/>
          <p:nvPr/>
        </p:nvGrpSpPr>
        <p:grpSpPr>
          <a:xfrm>
            <a:off x="231840" y="22985280"/>
            <a:ext cx="23113800" cy="11017440"/>
            <a:chOff x="231840" y="22985280"/>
            <a:chExt cx="23113800" cy="11017440"/>
          </a:xfrm>
        </p:grpSpPr>
        <p:sp>
          <p:nvSpPr>
            <p:cNvPr id="82" name="Afgeronde rechthoek 506"/>
            <p:cNvSpPr/>
            <p:nvPr/>
          </p:nvSpPr>
          <p:spPr>
            <a:xfrm>
              <a:off x="231840" y="23455080"/>
              <a:ext cx="23113800" cy="105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hthoek 507"/>
            <p:cNvSpPr/>
            <p:nvPr/>
          </p:nvSpPr>
          <p:spPr>
            <a:xfrm>
              <a:off x="7719840" y="22985280"/>
              <a:ext cx="8856720" cy="15174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kstvak 508"/>
            <p:cNvSpPr/>
            <p:nvPr/>
          </p:nvSpPr>
          <p:spPr>
            <a:xfrm>
              <a:off x="7864560" y="23148000"/>
              <a:ext cx="8237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: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bability that buffer 1 and 2 are full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" name="Tekstvak 475"/>
          <p:cNvSpPr/>
          <p:nvPr/>
        </p:nvSpPr>
        <p:spPr>
          <a:xfrm>
            <a:off x="4695840" y="20105640"/>
            <a:ext cx="5400720" cy="1556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9973"/>
                </a:solidFill>
                <a:latin typeface="Verdana"/>
              </a:rPr>
              <a:t>Model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Efficient production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kstvak 499"/>
          <p:cNvSpPr/>
          <p:nvPr/>
        </p:nvSpPr>
        <p:spPr>
          <a:xfrm>
            <a:off x="24066360" y="20105640"/>
            <a:ext cx="604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70c0"/>
                </a:solidFill>
                <a:latin typeface="Verdana"/>
              </a:rPr>
              <a:t>Model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« Production interruption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t both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kstvak 500"/>
          <p:cNvSpPr/>
          <p:nvPr/>
        </p:nvSpPr>
        <p:spPr>
          <a:xfrm>
            <a:off x="10530000" y="14236560"/>
            <a:ext cx="97185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Groep 489"/>
          <p:cNvGrpSpPr/>
          <p:nvPr/>
        </p:nvGrpSpPr>
        <p:grpSpPr>
          <a:xfrm>
            <a:off x="1095480" y="11033280"/>
            <a:ext cx="13825440" cy="3095640"/>
            <a:chOff x="1095480" y="11033280"/>
            <a:chExt cx="13825440" cy="3095640"/>
          </a:xfrm>
        </p:grpSpPr>
        <p:sp>
          <p:nvSpPr>
            <p:cNvPr id="89" name="Rond hoek zelfde zijde rechthoek 87"/>
            <p:cNvSpPr/>
            <p:nvPr/>
          </p:nvSpPr>
          <p:spPr>
            <a:xfrm rot="5400000">
              <a:off x="6460200" y="5668200"/>
              <a:ext cx="3095640" cy="1382544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19160 h 13825440"/>
                <a:gd name="textAreaBottom" fmla="*/ 13825800 h 1382544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ond hoek zelfde zijde rechthoek 4"/>
            <p:cNvSpPr/>
            <p:nvPr/>
          </p:nvSpPr>
          <p:spPr>
            <a:xfrm>
              <a:off x="1095480" y="11183760"/>
              <a:ext cx="13706640" cy="27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Tekstvak 89"/>
          <p:cNvSpPr/>
          <p:nvPr/>
        </p:nvSpPr>
        <p:spPr>
          <a:xfrm>
            <a:off x="1384200" y="11464920"/>
            <a:ext cx="1440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or kit, prior to arriving at an assembly un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ep 66"/>
          <p:cNvGrpSpPr/>
          <p:nvPr/>
        </p:nvGrpSpPr>
        <p:grpSpPr>
          <a:xfrm>
            <a:off x="13549320" y="38179440"/>
            <a:ext cx="16710120" cy="4248000"/>
            <a:chOff x="13549320" y="38179440"/>
            <a:chExt cx="16710120" cy="4248000"/>
          </a:xfrm>
        </p:grpSpPr>
        <p:grpSp>
          <p:nvGrpSpPr>
            <p:cNvPr id="93" name="Groep 70"/>
            <p:cNvGrpSpPr/>
            <p:nvPr/>
          </p:nvGrpSpPr>
          <p:grpSpPr>
            <a:xfrm>
              <a:off x="13549320" y="38179440"/>
              <a:ext cx="16423200" cy="4248000"/>
              <a:chOff x="13549320" y="38179440"/>
              <a:chExt cx="16423200" cy="4248000"/>
            </a:xfrm>
          </p:grpSpPr>
          <p:sp>
            <p:nvSpPr>
              <p:cNvPr id="94" name="Afgeronde rechthoek 100"/>
              <p:cNvSpPr/>
              <p:nvPr/>
            </p:nvSpPr>
            <p:spPr>
              <a:xfrm>
                <a:off x="13549320" y="38555640"/>
                <a:ext cx="16423200" cy="3871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Rechthoek 101"/>
              <p:cNvSpPr/>
              <p:nvPr/>
            </p:nvSpPr>
            <p:spPr>
              <a:xfrm>
                <a:off x="19239120" y="38179440"/>
                <a:ext cx="5159520" cy="836640"/>
              </a:xfrm>
              <a:prstGeom prst="rect">
                <a:avLst/>
              </a:prstGeom>
              <a:gradFill rotWithShape="0">
                <a:gsLst>
                  <a:gs pos="0">
                    <a:srgbClr val="77ae96"/>
                  </a:gs>
                  <a:gs pos="100000">
                    <a:srgbClr val="9ce5c6"/>
                  </a:gs>
                </a:gsLst>
                <a:lin ang="16200000"/>
              </a:gra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Tekstvak 512"/>
              <p:cNvSpPr/>
              <p:nvPr/>
            </p:nvSpPr>
            <p:spPr>
              <a:xfrm>
                <a:off x="18378360" y="38250000"/>
                <a:ext cx="7194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Future research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7" name="Tekstvak 103"/>
            <p:cNvSpPr/>
            <p:nvPr/>
          </p:nvSpPr>
          <p:spPr>
            <a:xfrm>
              <a:off x="13765320" y="39043800"/>
              <a:ext cx="16494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Expansion of the models to more than 2 part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alculation of other performance measures such as kit earliness or tardin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Integration of kitting in a production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Cost calculation of the proces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Tekstvak 73"/>
          <p:cNvSpPr/>
          <p:nvPr/>
        </p:nvSpPr>
        <p:spPr>
          <a:xfrm>
            <a:off x="17010000" y="11680920"/>
            <a:ext cx="117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ree Markovian queues models for kitting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with two par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ep 64"/>
          <p:cNvGrpSpPr/>
          <p:nvPr/>
        </p:nvGrpSpPr>
        <p:grpSpPr>
          <a:xfrm>
            <a:off x="231840" y="32994720"/>
            <a:ext cx="13033440" cy="6481800"/>
            <a:chOff x="231840" y="32994720"/>
            <a:chExt cx="13033440" cy="6481800"/>
          </a:xfrm>
        </p:grpSpPr>
        <p:sp>
          <p:nvSpPr>
            <p:cNvPr id="100" name="Afgeronde rechthoek 75"/>
            <p:cNvSpPr/>
            <p:nvPr/>
          </p:nvSpPr>
          <p:spPr>
            <a:xfrm>
              <a:off x="231840" y="33390000"/>
              <a:ext cx="13033440" cy="608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hthoek 76"/>
            <p:cNvSpPr/>
            <p:nvPr/>
          </p:nvSpPr>
          <p:spPr>
            <a:xfrm>
              <a:off x="5130720" y="32996160"/>
              <a:ext cx="3932280" cy="7905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kstvak 77"/>
            <p:cNvSpPr/>
            <p:nvPr/>
          </p:nvSpPr>
          <p:spPr>
            <a:xfrm>
              <a:off x="5700600" y="32994720"/>
              <a:ext cx="363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kstvak 78"/>
            <p:cNvSpPr/>
            <p:nvPr/>
          </p:nvSpPr>
          <p:spPr>
            <a:xfrm>
              <a:off x="501840" y="34022520"/>
              <a:ext cx="12035160" cy="45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600" spc="-1" strike="noStrike">
                  <a:solidFill>
                    <a:srgbClr val="000000"/>
                  </a:solidFill>
                  <a:latin typeface="Verdana"/>
                </a:rPr>
                <a:t>Sparse</a:t>
              </a:r>
              <a:r>
                <a:rPr b="0" lang="fr-BE" sz="3600" spc="-1" strike="noStrike">
                  <a:solidFill>
                    <a:srgbClr val="000000"/>
                  </a:solidFill>
                  <a:latin typeface="Verdana"/>
                </a:rPr>
                <a:t> matrix technique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olution for the « state space explosion problem » due to multidimensionality of the state space (2 buffers)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Sparse generator matrix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Use of the GMRES Method (General Minimal Residual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) to solve the balance equations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fgeronde rechthoek 89"/>
          <p:cNvSpPr/>
          <p:nvPr/>
        </p:nvSpPr>
        <p:spPr>
          <a:xfrm>
            <a:off x="13554000" y="33370920"/>
            <a:ext cx="16418160" cy="459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kstvak 94"/>
          <p:cNvSpPr/>
          <p:nvPr/>
        </p:nvSpPr>
        <p:spPr>
          <a:xfrm>
            <a:off x="13771440" y="33929640"/>
            <a:ext cx="157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larger the capacity, the smaller the probability that the buffer is fu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rruptions in the production of part 1 have a greater impact on th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buffer 2 than on its own buffer (buffer 1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dding production interruptions for part 2 doesn’t have a signif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mpact on the probability for buffer 2 but does for buffer 1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Group 79"/>
          <p:cNvGrpSpPr/>
          <p:nvPr/>
        </p:nvGrpSpPr>
        <p:grpSpPr>
          <a:xfrm>
            <a:off x="20178720" y="32851800"/>
            <a:ext cx="3805200" cy="936720"/>
            <a:chOff x="20178720" y="32851800"/>
            <a:chExt cx="3805200" cy="936720"/>
          </a:xfrm>
        </p:grpSpPr>
        <p:sp>
          <p:nvSpPr>
            <p:cNvPr id="107" name="Rechthoek 82"/>
            <p:cNvSpPr/>
            <p:nvPr/>
          </p:nvSpPr>
          <p:spPr>
            <a:xfrm>
              <a:off x="20178720" y="32851800"/>
              <a:ext cx="3805200" cy="93672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TextBox 78"/>
            <p:cNvSpPr/>
            <p:nvPr/>
          </p:nvSpPr>
          <p:spPr>
            <a:xfrm>
              <a:off x="20538720" y="32987160"/>
              <a:ext cx="32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9" name="Picture 74" descr=""/>
          <p:cNvPicPr/>
          <p:nvPr/>
        </p:nvPicPr>
        <p:blipFill>
          <a:blip r:embed="rId6"/>
          <a:srcRect l="25199" t="9685" r="26766" b="32353"/>
          <a:stretch/>
        </p:blipFill>
        <p:spPr>
          <a:xfrm>
            <a:off x="736560" y="25449120"/>
            <a:ext cx="9433080" cy="711360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98"/>
          <p:cNvSpPr/>
          <p:nvPr/>
        </p:nvSpPr>
        <p:spPr>
          <a:xfrm>
            <a:off x="4768920" y="2509668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5" descr=""/>
          <p:cNvPicPr/>
          <p:nvPr/>
        </p:nvPicPr>
        <p:blipFill>
          <a:blip r:embed="rId7"/>
          <a:srcRect l="25986" t="10948" r="28732" b="32986"/>
          <a:stretch/>
        </p:blipFill>
        <p:spPr>
          <a:xfrm>
            <a:off x="10385280" y="25620840"/>
            <a:ext cx="8785440" cy="67975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86"/>
          <p:cNvGrpSpPr/>
          <p:nvPr/>
        </p:nvGrpSpPr>
        <p:grpSpPr>
          <a:xfrm>
            <a:off x="16505280" y="23850720"/>
            <a:ext cx="13466880" cy="4751280"/>
            <a:chOff x="16505280" y="23850720"/>
            <a:chExt cx="13466880" cy="4751280"/>
          </a:xfrm>
        </p:grpSpPr>
        <p:sp>
          <p:nvSpPr>
            <p:cNvPr id="113" name="Afgeronde rechthoek 81"/>
            <p:cNvSpPr/>
            <p:nvPr/>
          </p:nvSpPr>
          <p:spPr>
            <a:xfrm>
              <a:off x="16505280" y="24412680"/>
              <a:ext cx="13466880" cy="418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hthoek 82"/>
            <p:cNvSpPr/>
            <p:nvPr/>
          </p:nvSpPr>
          <p:spPr>
            <a:xfrm>
              <a:off x="20896560" y="23850720"/>
              <a:ext cx="3805920" cy="82044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kstvak 512"/>
            <p:cNvSpPr/>
            <p:nvPr/>
          </p:nvSpPr>
          <p:spPr>
            <a:xfrm>
              <a:off x="19660320" y="23977440"/>
              <a:ext cx="63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arameter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kstvak 85"/>
            <p:cNvSpPr/>
            <p:nvPr/>
          </p:nvSpPr>
          <p:spPr>
            <a:xfrm>
              <a:off x="16889760" y="25049520"/>
              <a:ext cx="1278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All models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BE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80 % load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tion interruptions 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BE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on average 10 kits can b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produced during a production period of 10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The production is interrupted 40 % of the time.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7" name="Tekstvak 98"/>
          <p:cNvSpPr/>
          <p:nvPr/>
        </p:nvSpPr>
        <p:spPr>
          <a:xfrm>
            <a:off x="13986000" y="2509668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mdcuype</cp:lastModifiedBy>
  <cp:lastPrinted>2000-03-21T09:19:16Z</cp:lastPrinted>
  <dcterms:modified xsi:type="dcterms:W3CDTF">2010-09-28T08:40:49Z</dcterms:modified>
  <cp:revision>283</cp:revision>
  <dc:subject/>
  <dc:title>No Slide Title</dc:title>
</cp:coreProperties>
</file>