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B79F-E075-4814-87F9-E6FB21607CFB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A808-4155-45B2-80B9-54F71A66E80A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C0A-A491-4EF7-B5A6-C44E6CBE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819-B3CE-4085-A3C2-BD69BC1D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DD9-D43D-4D2D-90B7-A8EA16AD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E9C-DDFE-4708-BDEE-E11B3281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BC5-4D9D-4D9E-92C6-DA93DD67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B19-D1B6-40B7-A9FF-BF309E85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2B2-A228-4943-B082-8A8AE406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1C2-7C80-4382-A69F-15E218C2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C73-981A-4FEF-8F4A-88FE10DF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277-C15D-4FF5-9BDD-5748D9DF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A21-81FA-401E-A124-DFFF8C5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DCF-1F0E-4609-8D4A-698961E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c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AF5C-BA54-411F-93F6-F0E7AC6A704A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Kitting Processe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Eline De Cuypere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Eline.DeCuypere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69" descr="SMACSlogo_vierkant"/>
          <p:cNvPicPr/>
          <p:nvPr/>
        </p:nvPicPr>
        <p:blipFill>
          <a:blip r:embed="rId1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Dieter Fiems and Herwig Brune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fgeronde rechthoek 438"/>
          <p:cNvSpPr/>
          <p:nvPr/>
        </p:nvSpPr>
        <p:spPr>
          <a:xfrm>
            <a:off x="303120" y="10528200"/>
            <a:ext cx="29827800" cy="1281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hthoek 441"/>
          <p:cNvSpPr/>
          <p:nvPr/>
        </p:nvSpPr>
        <p:spPr>
          <a:xfrm>
            <a:off x="4695840" y="9952200"/>
            <a:ext cx="5329080" cy="108108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kstvak 442"/>
          <p:cNvSpPr/>
          <p:nvPr/>
        </p:nvSpPr>
        <p:spPr>
          <a:xfrm>
            <a:off x="4840200" y="1016784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42" descr=""/>
          <p:cNvPicPr/>
          <p:nvPr/>
        </p:nvPicPr>
        <p:blipFill>
          <a:blip r:embed="rId2"/>
          <a:stretch/>
        </p:blipFill>
        <p:spPr>
          <a:xfrm>
            <a:off x="10312560" y="15352560"/>
            <a:ext cx="8431200" cy="4681800"/>
          </a:xfrm>
          <a:prstGeom prst="rect">
            <a:avLst/>
          </a:prstGeom>
          <a:ln w="0">
            <a:noFill/>
          </a:ln>
        </p:spPr>
      </p:pic>
      <p:sp>
        <p:nvSpPr>
          <p:cNvPr id="70" name="Tekstvak 480"/>
          <p:cNvSpPr/>
          <p:nvPr/>
        </p:nvSpPr>
        <p:spPr>
          <a:xfrm>
            <a:off x="15354360" y="195930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Model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" name="Groep 484"/>
          <p:cNvGrpSpPr/>
          <p:nvPr/>
        </p:nvGrpSpPr>
        <p:grpSpPr>
          <a:xfrm>
            <a:off x="1095480" y="16289280"/>
            <a:ext cx="7634160" cy="3313080"/>
            <a:chOff x="1095480" y="16289280"/>
            <a:chExt cx="7634160" cy="3313080"/>
          </a:xfrm>
        </p:grpSpPr>
        <p:pic>
          <p:nvPicPr>
            <p:cNvPr id="72" name="Picture 433" descr=""/>
            <p:cNvPicPr/>
            <p:nvPr/>
          </p:nvPicPr>
          <p:blipFill>
            <a:blip r:embed="rId3"/>
            <a:stretch/>
          </p:blipFill>
          <p:spPr>
            <a:xfrm>
              <a:off x="1095480" y="16289280"/>
              <a:ext cx="763416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Object 443" descr=""/>
            <p:cNvPicPr/>
            <p:nvPr/>
          </p:nvPicPr>
          <p:blipFill>
            <a:blip r:embed="rId4"/>
            <a:stretch/>
          </p:blipFill>
          <p:spPr>
            <a:xfrm>
              <a:off x="2891520" y="16335720"/>
              <a:ext cx="831240" cy="37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ep 489"/>
          <p:cNvGrpSpPr/>
          <p:nvPr/>
        </p:nvGrpSpPr>
        <p:grpSpPr>
          <a:xfrm>
            <a:off x="14920560" y="11609280"/>
            <a:ext cx="15067080" cy="2951280"/>
            <a:chOff x="14920560" y="11609280"/>
            <a:chExt cx="15067080" cy="2951280"/>
          </a:xfrm>
        </p:grpSpPr>
        <p:sp>
          <p:nvSpPr>
            <p:cNvPr id="75" name="Rond hoek zelfde zijde rechthoek 490"/>
            <p:cNvSpPr/>
            <p:nvPr/>
          </p:nvSpPr>
          <p:spPr>
            <a:xfrm rot="5400000">
              <a:off x="20978280" y="5551200"/>
              <a:ext cx="2951280" cy="15067080"/>
            </a:xfrm>
            <a:custGeom>
              <a:avLst/>
              <a:gdLst>
                <a:gd name="textAreaLeft" fmla="*/ 144000 w 2951280"/>
                <a:gd name="textAreaRight" fmla="*/ 2807280 w 2951280"/>
                <a:gd name="textAreaTop" fmla="*/ 129600 h 15067080"/>
                <a:gd name="textAreaBottom" fmla="*/ 15067440 h 15067080"/>
              </a:gdLst>
              <a:ahLst/>
              <a:rect l="textAreaLeft" t="textAreaTop" r="textAreaRight" b="textAreaBottom"/>
              <a:pathLst>
                <a:path w="2270952" h="12853878">
                  <a:moveTo>
                    <a:pt x="378500" y="0"/>
                  </a:moveTo>
                  <a:lnTo>
                    <a:pt x="1892452" y="0"/>
                  </a:lnTo>
                  <a:lnTo>
                    <a:pt x="1892452" y="0"/>
                  </a:lnTo>
                  <a:arcTo wR="378500" hR="378500" stAng="-5400000" swAng="5400009"/>
                  <a:lnTo>
                    <a:pt x="2270952" y="12853878"/>
                  </a:lnTo>
                  <a:lnTo>
                    <a:pt x="0" y="12853878"/>
                  </a:lnTo>
                  <a:lnTo>
                    <a:pt x="0" y="378500"/>
                  </a:lnTo>
                  <a:lnTo>
                    <a:pt x="0" y="378500"/>
                  </a:lnTo>
                  <a:arcTo wR="378500" hR="378500" stAng="10800000" swAng="5400009"/>
                  <a:close/>
                </a:path>
              </a:pathLst>
            </a:custGeom>
            <a:solidFill>
              <a:srgbClr val="cbecde">
                <a:alpha val="90000"/>
              </a:srgbClr>
            </a:solidFill>
            <a:ln w="25560">
              <a:solidFill>
                <a:srgbClr val="cbecde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ond hoek zelfde zijde rechthoek 4"/>
            <p:cNvSpPr/>
            <p:nvPr/>
          </p:nvSpPr>
          <p:spPr>
            <a:xfrm>
              <a:off x="14920920" y="11753280"/>
              <a:ext cx="14936400" cy="26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0120" rIns="240120" tIns="119880" bIns="11988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77" name="Picture 444" descr=""/>
          <p:cNvPicPr/>
          <p:nvPr/>
        </p:nvPicPr>
        <p:blipFill>
          <a:blip r:embed="rId5"/>
          <a:stretch/>
        </p:blipFill>
        <p:spPr>
          <a:xfrm>
            <a:off x="20755080" y="14776560"/>
            <a:ext cx="8523360" cy="6330960"/>
          </a:xfrm>
          <a:prstGeom prst="rect">
            <a:avLst/>
          </a:prstGeom>
          <a:ln w="0">
            <a:noFill/>
          </a:ln>
        </p:spPr>
      </p:pic>
      <p:sp>
        <p:nvSpPr>
          <p:cNvPr id="78" name="Tekstvak 500"/>
          <p:cNvSpPr/>
          <p:nvPr/>
        </p:nvSpPr>
        <p:spPr>
          <a:xfrm>
            <a:off x="21186720" y="21400920"/>
            <a:ext cx="5832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hthoek 80"/>
          <p:cNvSpPr/>
          <p:nvPr/>
        </p:nvSpPr>
        <p:spPr>
          <a:xfrm>
            <a:off x="20970720" y="10024920"/>
            <a:ext cx="4319640" cy="100836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kstvak 81"/>
          <p:cNvSpPr/>
          <p:nvPr/>
        </p:nvSpPr>
        <p:spPr>
          <a:xfrm>
            <a:off x="20682000" y="10024920"/>
            <a:ext cx="5327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Kitting Model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kstvak 500"/>
          <p:cNvSpPr/>
          <p:nvPr/>
        </p:nvSpPr>
        <p:spPr>
          <a:xfrm>
            <a:off x="1455840" y="21258360"/>
            <a:ext cx="540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64"/>
          <p:cNvSpPr/>
          <p:nvPr/>
        </p:nvSpPr>
        <p:spPr>
          <a:xfrm>
            <a:off x="0" y="109548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66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Groep 505"/>
          <p:cNvGrpSpPr/>
          <p:nvPr/>
        </p:nvGrpSpPr>
        <p:grpSpPr>
          <a:xfrm>
            <a:off x="1095480" y="24498360"/>
            <a:ext cx="23113800" cy="10009080"/>
            <a:chOff x="1095480" y="24498360"/>
            <a:chExt cx="23113800" cy="10009080"/>
          </a:xfrm>
        </p:grpSpPr>
        <p:sp>
          <p:nvSpPr>
            <p:cNvPr id="85" name="Afgeronde rechthoek 506"/>
            <p:cNvSpPr/>
            <p:nvPr/>
          </p:nvSpPr>
          <p:spPr>
            <a:xfrm>
              <a:off x="1095480" y="24993720"/>
              <a:ext cx="23113800" cy="9513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hthoek 507"/>
            <p:cNvSpPr/>
            <p:nvPr/>
          </p:nvSpPr>
          <p:spPr>
            <a:xfrm>
              <a:off x="9952200" y="24498360"/>
              <a:ext cx="5832360" cy="108000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Tekstvak 508"/>
            <p:cNvSpPr/>
            <p:nvPr/>
          </p:nvSpPr>
          <p:spPr>
            <a:xfrm>
              <a:off x="8728200" y="24661800"/>
              <a:ext cx="823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Numerical Example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8" name="Picture 4" descr=""/>
          <p:cNvPicPr/>
          <p:nvPr/>
        </p:nvPicPr>
        <p:blipFill>
          <a:blip r:embed="rId6"/>
          <a:srcRect l="17725" t="8957" r="14179" b="7464"/>
          <a:stretch/>
        </p:blipFill>
        <p:spPr>
          <a:xfrm>
            <a:off x="2103480" y="26443080"/>
            <a:ext cx="9761400" cy="748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7"/>
          <a:srcRect l="16981" t="9250" r="12933" b="7512"/>
          <a:stretch/>
        </p:blipFill>
        <p:spPr>
          <a:xfrm>
            <a:off x="12617280" y="26658720"/>
            <a:ext cx="9433080" cy="7002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ep 70"/>
          <p:cNvGrpSpPr/>
          <p:nvPr/>
        </p:nvGrpSpPr>
        <p:grpSpPr>
          <a:xfrm>
            <a:off x="635040" y="33859800"/>
            <a:ext cx="16273440" cy="5400720"/>
            <a:chOff x="635040" y="33859800"/>
            <a:chExt cx="16273440" cy="5400720"/>
          </a:xfrm>
        </p:grpSpPr>
        <p:sp>
          <p:nvSpPr>
            <p:cNvPr id="91" name="Afgeronde rechthoek 71"/>
            <p:cNvSpPr/>
            <p:nvPr/>
          </p:nvSpPr>
          <p:spPr>
            <a:xfrm>
              <a:off x="635040" y="34439400"/>
              <a:ext cx="16273440" cy="4821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hthoek 72"/>
            <p:cNvSpPr/>
            <p:nvPr/>
          </p:nvSpPr>
          <p:spPr>
            <a:xfrm>
              <a:off x="7432200" y="33859800"/>
              <a:ext cx="2232000" cy="100800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kstvak 512"/>
            <p:cNvSpPr/>
            <p:nvPr/>
          </p:nvSpPr>
          <p:spPr>
            <a:xfrm>
              <a:off x="5199840" y="34003800"/>
              <a:ext cx="664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Result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4" name="Groep 69"/>
          <p:cNvGrpSpPr/>
          <p:nvPr/>
        </p:nvGrpSpPr>
        <p:grpSpPr>
          <a:xfrm>
            <a:off x="18521280" y="23490360"/>
            <a:ext cx="9921960" cy="8280360"/>
            <a:chOff x="18521280" y="23490360"/>
            <a:chExt cx="9921960" cy="8280360"/>
          </a:xfrm>
        </p:grpSpPr>
        <p:grpSp>
          <p:nvGrpSpPr>
            <p:cNvPr id="95" name="Groep 66"/>
            <p:cNvGrpSpPr/>
            <p:nvPr/>
          </p:nvGrpSpPr>
          <p:grpSpPr>
            <a:xfrm>
              <a:off x="18521280" y="23490360"/>
              <a:ext cx="9921960" cy="8280360"/>
              <a:chOff x="18521280" y="23490360"/>
              <a:chExt cx="9921960" cy="8280360"/>
            </a:xfrm>
          </p:grpSpPr>
          <p:sp>
            <p:nvSpPr>
              <p:cNvPr id="96" name="Afgeronde rechthoek 67"/>
              <p:cNvSpPr/>
              <p:nvPr/>
            </p:nvSpPr>
            <p:spPr>
              <a:xfrm>
                <a:off x="18521280" y="23853600"/>
                <a:ext cx="9921960" cy="7917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Rechthoek 68"/>
              <p:cNvSpPr/>
              <p:nvPr/>
            </p:nvSpPr>
            <p:spPr>
              <a:xfrm>
                <a:off x="21217680" y="23490360"/>
                <a:ext cx="4720680" cy="936000"/>
              </a:xfrm>
              <a:prstGeom prst="rect">
                <a:avLst/>
              </a:prstGeom>
              <a:gradFill rotWithShape="0">
                <a:gsLst>
                  <a:gs pos="0">
                    <a:srgbClr val="77ae96"/>
                  </a:gs>
                  <a:gs pos="100000">
                    <a:srgbClr val="9ce5c6"/>
                  </a:gs>
                </a:gsLst>
                <a:lin ang="16200000"/>
              </a:gradFill>
              <a:ln w="9360">
                <a:solidFill>
                  <a:srgbClr val="a5dec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Tekstvak 512"/>
              <p:cNvSpPr/>
              <p:nvPr/>
            </p:nvSpPr>
            <p:spPr>
              <a:xfrm>
                <a:off x="21473640" y="23562360"/>
                <a:ext cx="404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3200" spc="-1" strike="noStrike">
                    <a:solidFill>
                      <a:srgbClr val="000000"/>
                    </a:solidFill>
                    <a:latin typeface="Verdana"/>
                  </a:rPr>
                  <a:t>Parameters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" name="Tekstvak 74"/>
            <p:cNvSpPr/>
            <p:nvPr/>
          </p:nvSpPr>
          <p:spPr>
            <a:xfrm>
              <a:off x="19225440" y="24642360"/>
              <a:ext cx="7346160" cy="71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300" spc="-1" strike="noStrike">
                  <a:solidFill>
                    <a:srgbClr val="92d050"/>
                  </a:solidFill>
                  <a:latin typeface="Verdana"/>
                </a:rPr>
                <a:t>Base Model    </a:t>
              </a:r>
              <a:endParaRPr b="0" lang="en-US" sz="3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 = 0.8               </a:t>
              </a:r>
              <a:r>
                <a:rPr b="0" lang="el-GR" sz="3000" spc="-1" strike="noStrike">
                  <a:solidFill>
                    <a:srgbClr val="000000"/>
                  </a:solidFill>
                  <a:latin typeface="Verdana"/>
                </a:rPr>
                <a:t>μ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= 0.8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300" spc="-1" strike="noStrike">
                  <a:solidFill>
                    <a:srgbClr val="000000"/>
                  </a:solidFill>
                  <a:latin typeface="Verdana"/>
                </a:rPr>
                <a:t>Model 1</a:t>
              </a:r>
              <a:endParaRPr b="0" lang="en-US" sz="3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0" lang="fr-BE" sz="30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fr-BE" sz="3000" spc="-1" strike="noStrike" baseline="30000">
                  <a:solidFill>
                    <a:srgbClr val="000000"/>
                  </a:solidFill>
                  <a:latin typeface="Verdana"/>
                </a:rPr>
                <a:t>* </a:t>
              </a: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= 2                </a:t>
              </a:r>
              <a:r>
                <a:rPr b="0" lang="el-GR" sz="3000" spc="-1" strike="noStrike">
                  <a:solidFill>
                    <a:srgbClr val="000000"/>
                  </a:solidFill>
                  <a:latin typeface="Verdana"/>
                </a:rPr>
                <a:t>α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 = 0.25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Verdana"/>
                </a:rPr>
                <a:t>2 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= 0.8              </a:t>
              </a:r>
              <a:r>
                <a:rPr b="0" lang="el-GR" sz="3000" spc="-1" strike="noStrike">
                  <a:solidFill>
                    <a:srgbClr val="000000"/>
                  </a:solidFill>
                  <a:latin typeface="Verdana"/>
                </a:rPr>
                <a:t>β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 = 0.1667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000" spc="-1" strike="noStrike">
                  <a:solidFill>
                    <a:srgbClr val="000000"/>
                  </a:solidFill>
                  <a:latin typeface="Verdana"/>
                </a:rPr>
                <a:t>μ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300" spc="-1" strike="noStrike">
                  <a:solidFill>
                    <a:srgbClr val="0070c0"/>
                  </a:solidFill>
                  <a:latin typeface="Verdana"/>
                </a:rPr>
                <a:t>Model 2</a:t>
              </a:r>
              <a:endParaRPr b="0" lang="en-US" sz="3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1" lang="fr-BE" sz="30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lang="fr-BE" sz="3000" spc="-1" strike="noStrike" baseline="30000">
                  <a:solidFill>
                    <a:srgbClr val="000000"/>
                  </a:solidFill>
                  <a:latin typeface="Verdana"/>
                </a:rPr>
                <a:t>*</a:t>
              </a: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 = [0 2 0 2]   </a:t>
              </a:r>
              <a:r>
                <a:rPr b="1" lang="en-US" sz="3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 = 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1" lang="fr-BE" sz="3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fr-BE" sz="3000" spc="-1" strike="noStrike" baseline="30000">
                  <a:solidFill>
                    <a:srgbClr val="000000"/>
                  </a:solidFill>
                  <a:latin typeface="Verdana"/>
                </a:rPr>
                <a:t>*</a:t>
              </a: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 = [0 0 2 2]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000" spc="-1" strike="noStrike">
                  <a:solidFill>
                    <a:srgbClr val="000000"/>
                  </a:solidFill>
                  <a:latin typeface="Verdana"/>
                </a:rPr>
                <a:t>μ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 = [1 1 1 1]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0" name="Picture 65" descr=""/>
            <p:cNvPicPr/>
            <p:nvPr/>
          </p:nvPicPr>
          <p:blipFill>
            <a:blip r:embed="rId8"/>
            <a:stretch/>
          </p:blipFill>
          <p:spPr>
            <a:xfrm>
              <a:off x="23402160" y="29322720"/>
              <a:ext cx="4608720" cy="18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kstvak 475"/>
          <p:cNvSpPr/>
          <p:nvPr/>
        </p:nvSpPr>
        <p:spPr>
          <a:xfrm>
            <a:off x="4624560" y="19529280"/>
            <a:ext cx="4535280" cy="581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2d050"/>
                </a:solidFill>
                <a:latin typeface="Verdana"/>
              </a:rPr>
              <a:t>Base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kstvak 499"/>
          <p:cNvSpPr/>
          <p:nvPr/>
        </p:nvSpPr>
        <p:spPr>
          <a:xfrm>
            <a:off x="24738120" y="19458000"/>
            <a:ext cx="55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b0f0"/>
                </a:solidFill>
                <a:latin typeface="Verdana"/>
              </a:rPr>
              <a:t>Model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kstvak 500"/>
          <p:cNvSpPr/>
          <p:nvPr/>
        </p:nvSpPr>
        <p:spPr>
          <a:xfrm>
            <a:off x="9377280" y="21510720"/>
            <a:ext cx="9720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of part 1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 of part 2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kstvak 83"/>
          <p:cNvSpPr/>
          <p:nvPr/>
        </p:nvSpPr>
        <p:spPr>
          <a:xfrm>
            <a:off x="14920920" y="11536200"/>
            <a:ext cx="1476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For part 1 in </a:t>
            </a: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Model 1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and part 1 &amp; 2 in </a:t>
            </a:r>
            <a:r>
              <a:rPr b="1" lang="fr-BE" sz="3200" spc="-1" strike="noStrike">
                <a:solidFill>
                  <a:srgbClr val="00b0f0"/>
                </a:solidFill>
                <a:latin typeface="Verdana"/>
              </a:rPr>
              <a:t>Model 2</a:t>
            </a:r>
            <a:r>
              <a:rPr b="0" lang="fr-BE" sz="32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we assume a 40%  effective production time. The time length is equal to 10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o ensure a same total 80% production time for all models, the « interrupted » parts arrive at an intensity equal to 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Groep 489"/>
          <p:cNvGrpSpPr/>
          <p:nvPr/>
        </p:nvGrpSpPr>
        <p:grpSpPr>
          <a:xfrm>
            <a:off x="879480" y="11464920"/>
            <a:ext cx="13754160" cy="3745080"/>
            <a:chOff x="879480" y="11464920"/>
            <a:chExt cx="13754160" cy="3745080"/>
          </a:xfrm>
        </p:grpSpPr>
        <p:sp>
          <p:nvSpPr>
            <p:cNvPr id="106" name="Rond hoek zelfde zijde rechthoek 87"/>
            <p:cNvSpPr/>
            <p:nvPr/>
          </p:nvSpPr>
          <p:spPr>
            <a:xfrm rot="5400000">
              <a:off x="5883840" y="6460200"/>
              <a:ext cx="3745080" cy="13754160"/>
            </a:xfrm>
            <a:custGeom>
              <a:avLst/>
              <a:gdLst>
                <a:gd name="textAreaLeft" fmla="*/ 182520 w 3745080"/>
                <a:gd name="textAreaRight" fmla="*/ 3562560 w 3745080"/>
                <a:gd name="textAreaTop" fmla="*/ 118440 h 13754160"/>
                <a:gd name="textAreaBottom" fmla="*/ 13754520 h 13754160"/>
              </a:gdLst>
              <a:ahLst/>
              <a:rect l="textAreaLeft" t="textAreaTop" r="textAreaRight" b="textAreaBottom"/>
              <a:pathLst>
                <a:path w="2270952" h="12853878">
                  <a:moveTo>
                    <a:pt x="378500" y="0"/>
                  </a:moveTo>
                  <a:lnTo>
                    <a:pt x="1892452" y="0"/>
                  </a:lnTo>
                  <a:lnTo>
                    <a:pt x="1892452" y="0"/>
                  </a:lnTo>
                  <a:arcTo wR="378500" hR="378500" stAng="-5400000" swAng="5400009"/>
                  <a:lnTo>
                    <a:pt x="2270952" y="12853878"/>
                  </a:lnTo>
                  <a:lnTo>
                    <a:pt x="0" y="12853878"/>
                  </a:lnTo>
                  <a:lnTo>
                    <a:pt x="0" y="378500"/>
                  </a:lnTo>
                  <a:lnTo>
                    <a:pt x="0" y="378500"/>
                  </a:lnTo>
                  <a:arcTo wR="378500" hR="378500" stAng="10800000" swAng="5400009"/>
                  <a:close/>
                </a:path>
              </a:pathLst>
            </a:custGeom>
            <a:solidFill>
              <a:srgbClr val="cbecde">
                <a:alpha val="90000"/>
              </a:srgbClr>
            </a:solidFill>
            <a:ln w="25560">
              <a:solidFill>
                <a:srgbClr val="cbecde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Rond hoek zelfde zijde rechthoek 4"/>
            <p:cNvSpPr/>
            <p:nvPr/>
          </p:nvSpPr>
          <p:spPr>
            <a:xfrm>
              <a:off x="879480" y="11647800"/>
              <a:ext cx="13635000" cy="33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0120" rIns="240120" tIns="119880" bIns="11988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" name="Tekstvak 89"/>
          <p:cNvSpPr/>
          <p:nvPr/>
        </p:nvSpPr>
        <p:spPr>
          <a:xfrm>
            <a:off x="879480" y="11752200"/>
            <a:ext cx="1440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Strategy for supplying materials to an assembly lin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parts necessary for assembly are collected into a container    referred to as « kit », prior arriving at an assembly un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Process defined as a </a:t>
            </a: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Continuous Time Markov Ch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ep 70"/>
          <p:cNvGrpSpPr/>
          <p:nvPr/>
        </p:nvGrpSpPr>
        <p:grpSpPr>
          <a:xfrm>
            <a:off x="16362360" y="33715440"/>
            <a:ext cx="13392000" cy="3600360"/>
            <a:chOff x="16362360" y="33715440"/>
            <a:chExt cx="13392000" cy="3600360"/>
          </a:xfrm>
        </p:grpSpPr>
        <p:sp>
          <p:nvSpPr>
            <p:cNvPr id="110" name="Afgeronde rechthoek 91"/>
            <p:cNvSpPr/>
            <p:nvPr/>
          </p:nvSpPr>
          <p:spPr>
            <a:xfrm>
              <a:off x="16362360" y="33978960"/>
              <a:ext cx="13392000" cy="333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hthoek 92"/>
            <p:cNvSpPr/>
            <p:nvPr/>
          </p:nvSpPr>
          <p:spPr>
            <a:xfrm>
              <a:off x="19962360" y="33715440"/>
              <a:ext cx="4320000" cy="72036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kstvak 512"/>
            <p:cNvSpPr/>
            <p:nvPr/>
          </p:nvSpPr>
          <p:spPr>
            <a:xfrm>
              <a:off x="19170360" y="33778440"/>
              <a:ext cx="602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Methodolog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Tekstvak 95"/>
          <p:cNvSpPr/>
          <p:nvPr/>
        </p:nvSpPr>
        <p:spPr>
          <a:xfrm>
            <a:off x="16433640" y="34651800"/>
            <a:ext cx="1346544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Sparse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matrix techni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solution for the « steady state explosion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terative solution: the Generalized Minimal Residual Meth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kstvak 86"/>
          <p:cNvSpPr/>
          <p:nvPr/>
        </p:nvSpPr>
        <p:spPr>
          <a:xfrm>
            <a:off x="736560" y="34939440"/>
            <a:ext cx="15625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larger the capacity, the smaller the probability that the buffer is ful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nterruptions in the production of one part have a greater impact on the  buffer of the other part than on its ow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dding a production interrupted component to part 2 doesn’t have a significant impact on the probabilit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kstvak 97"/>
          <p:cNvSpPr/>
          <p:nvPr/>
        </p:nvSpPr>
        <p:spPr>
          <a:xfrm>
            <a:off x="5345280" y="25506360"/>
            <a:ext cx="37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Buffer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kstvak 98"/>
          <p:cNvSpPr/>
          <p:nvPr/>
        </p:nvSpPr>
        <p:spPr>
          <a:xfrm>
            <a:off x="15928920" y="25435080"/>
            <a:ext cx="37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Buffer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Groep 70"/>
          <p:cNvGrpSpPr/>
          <p:nvPr/>
        </p:nvGrpSpPr>
        <p:grpSpPr>
          <a:xfrm>
            <a:off x="9737640" y="37531800"/>
            <a:ext cx="19729440" cy="4984560"/>
            <a:chOff x="9737640" y="37531800"/>
            <a:chExt cx="19729440" cy="4984560"/>
          </a:xfrm>
        </p:grpSpPr>
        <p:sp>
          <p:nvSpPr>
            <p:cNvPr id="118" name="Afgeronde rechthoek 100"/>
            <p:cNvSpPr/>
            <p:nvPr/>
          </p:nvSpPr>
          <p:spPr>
            <a:xfrm>
              <a:off x="9737640" y="37973880"/>
              <a:ext cx="19729440" cy="45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hthoek 101"/>
            <p:cNvSpPr/>
            <p:nvPr/>
          </p:nvSpPr>
          <p:spPr>
            <a:xfrm>
              <a:off x="16314120" y="37531800"/>
              <a:ext cx="6364440" cy="98064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kstvak 512"/>
            <p:cNvSpPr/>
            <p:nvPr/>
          </p:nvSpPr>
          <p:spPr>
            <a:xfrm>
              <a:off x="15253200" y="37614600"/>
              <a:ext cx="887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Future research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kstvak 103"/>
          <p:cNvSpPr/>
          <p:nvPr/>
        </p:nvSpPr>
        <p:spPr>
          <a:xfrm>
            <a:off x="9953640" y="38598480"/>
            <a:ext cx="1958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Expansion of the models to more than 2 part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Calculation of other performance measures such as kit earliness or inertia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ntegration of kitting in a production process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Cost calculation of the proces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pplication of the technique in other domains such as telecommunication syste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Eline</cp:lastModifiedBy>
  <cp:lastPrinted>2000-03-21T09:19:16Z</cp:lastPrinted>
  <dcterms:modified xsi:type="dcterms:W3CDTF">2010-09-13T12:20:14Z</dcterms:modified>
  <cp:revision>257</cp:revision>
  <dc:subject/>
  <dc:title>No Slide Title</dc:title>
</cp:coreProperties>
</file>