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AC1E-FA4A-4A9D-9C4E-9D24EC072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6B96-D592-44C1-967C-49067D9D3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175E-7C0D-446C-A679-6E83E4274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8398-4F16-4840-AE68-AD8D006B3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2FBF-5453-4CC6-894F-9F92AE087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64AA-BDD9-4CF3-8B1E-81304B513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D13F-0051-46DD-948D-A079E83BD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B4C9-C5FD-4991-87D1-826B8F298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2087-BB73-4B2C-9D8D-D75206DD2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0505-FAAE-428E-BE73-51DC9A06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7616-6212-491C-AF2E-187B560E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81D6-68DD-4CC2-972C-350215DE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B507F-0488-4EB8-9600-0510932A2B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S 5253 Workshop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3505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C Protocol and Traffic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Retransmi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ddition to the new packets, the stations also generate retransmissions of packets that previously suffered collis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that th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acket (new + retransmitted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enerated is also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oisson with mean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er packet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4"/>
              <p:cNvSpPr txBox="1"/>
              <p:nvPr/>
            </p:nvSpPr>
            <p:spPr>
              <a:xfrm>
                <a:off x="3625920" y="5029200"/>
                <a:ext cx="234936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[</m:t>
                    </m:r>
                    <m:r>
                      <m:t xml:space="preserve">k</m:t>
                    </m:r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G</m:t>
                            </m:r>
                          </m:sup>
                        </m:sSup>
                      </m:num>
                      <m:den>
                        <m:r>
                          <m:t xml:space="preserve">k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 betwee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rly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low load, few collis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high load, many collis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 all load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probability that a packet does not suffer a colli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0"/>
              <p:cNvSpPr txBox="1"/>
              <p:nvPr/>
            </p:nvSpPr>
            <p:spPr>
              <a:xfrm>
                <a:off x="2971800" y="2057400"/>
                <a:ext cx="111744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≥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1"/>
              <p:cNvSpPr txBox="1"/>
              <p:nvPr/>
            </p:nvSpPr>
            <p:spPr>
              <a:xfrm>
                <a:off x="6095880" y="2590920"/>
                <a:ext cx="11178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≈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Object 2"/>
              <p:cNvSpPr txBox="1"/>
              <p:nvPr/>
            </p:nvSpPr>
            <p:spPr>
              <a:xfrm>
                <a:off x="6400800" y="3200400"/>
                <a:ext cx="111744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&g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3"/>
              <p:cNvSpPr txBox="1"/>
              <p:nvPr/>
            </p:nvSpPr>
            <p:spPr>
              <a:xfrm>
                <a:off x="3962520" y="4267080"/>
                <a:ext cx="143172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ulnerable Peri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 what conditions will the shaded packet arrive undamag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4" descr="C:\net_figure\4-2.jpg"/>
          <p:cNvPicPr/>
          <p:nvPr/>
        </p:nvPicPr>
        <p:blipFill>
          <a:blip r:embed="rId1"/>
          <a:stretch/>
        </p:blipFill>
        <p:spPr>
          <a:xfrm>
            <a:off x="1066680" y="2743200"/>
            <a:ext cx="69343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oughp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ulnerable period: fro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+2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ty of no other packet generated during the vulnerable period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 = G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4"/>
              <p:cNvSpPr txBox="1"/>
              <p:nvPr/>
            </p:nvSpPr>
            <p:spPr>
              <a:xfrm>
                <a:off x="3352680" y="3733920"/>
                <a:ext cx="182880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G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5"/>
              <p:cNvSpPr txBox="1"/>
              <p:nvPr/>
            </p:nvSpPr>
            <p:spPr>
              <a:xfrm>
                <a:off x="3429000" y="5486400"/>
                <a:ext cx="198108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G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G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 betwee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4" descr="C:\net_figure\4-3.jpg"/>
          <p:cNvPicPr/>
          <p:nvPr/>
        </p:nvPicPr>
        <p:blipFill>
          <a:blip r:embed="rId1"/>
          <a:stretch/>
        </p:blipFill>
        <p:spPr>
          <a:xfrm>
            <a:off x="762120" y="1523880"/>
            <a:ext cx="7238880" cy="34480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914400" y="5105520"/>
            <a:ext cx="7315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throughput occurs a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.5,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/(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0.18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, max. channel utilization is 18.4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otted ALO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time up into discrete intervals, each corresponding to one pack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ulnerable period is now reduced in hal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no other packet generated during the vulnerable period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4"/>
              <p:cNvSpPr txBox="1"/>
              <p:nvPr/>
            </p:nvSpPr>
            <p:spPr>
              <a:xfrm>
                <a:off x="4495680" y="4038480"/>
                <a:ext cx="170820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G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5"/>
              <p:cNvSpPr txBox="1"/>
              <p:nvPr/>
            </p:nvSpPr>
            <p:spPr>
              <a:xfrm>
                <a:off x="2819520" y="5257800"/>
                <a:ext cx="186372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G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G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rrier Sen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ny situations, stations can tell if the channel is in use before trying to use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channel i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ens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us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no station will attempt to use it until it goes id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the basic idea of th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arrier Sense Multiple Access (CSMA) protoco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SMA Protoc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different variations of the CSMA protoc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-persistent CS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persistent CS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ersistent CS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discuss only 1-persistent CS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-persistent CSM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toco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ens before transm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channel busy, waits until channel i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channel idle, transm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collision occurs, waits a random amount of time and starts all over a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called 1-persistent because the station transmits with a probability of 1 whenever it finds the channel id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4" descr="C:\net_figure\4-4.jpg"/>
          <p:cNvPicPr/>
          <p:nvPr/>
        </p:nvPicPr>
        <p:blipFill>
          <a:blip r:embed="rId1"/>
          <a:stretch/>
        </p:blipFill>
        <p:spPr>
          <a:xfrm>
            <a:off x="762120" y="1905120"/>
            <a:ext cx="75438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familiar with OPNET, a tool for network simulat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PNET to study CSMA/CD channel access and traffic modelin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seph L. Hammond, and Petter J. P. O’Reilly, Performance Analysis of Local Computer Networks, Addison_Wesley Publishing Company,1986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ry N. Higginbottom, Performance Evaluation of Communication Networks, Artech House, 19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SMA/CD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wo stations transmits simultaneously, they will both detect the collision almost immediatel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finish transmitting their packets, the stations should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stop transmitting as soon as the collision is detect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protocol is called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SMA with collision detection (CSMA/C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ffic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ant-Bit-Rate Traffi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traditional (circuit-switched) 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-Off Sou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packetized 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sson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traditional data traffic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rupted Poisson Process (IP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bursty data traf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ov Modulated Poisson Process (MMP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multimedia traf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ant-Bit-Rate Traff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s are generated at a constant bit r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1828800" y="4038480"/>
            <a:ext cx="5335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2438280" y="4038480"/>
            <a:ext cx="5335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3048120" y="4038480"/>
            <a:ext cx="5331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3657600" y="4038480"/>
            <a:ext cx="5335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4267080" y="4038480"/>
            <a:ext cx="5335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4"/>
          <p:cNvSpPr/>
          <p:nvPr/>
        </p:nvSpPr>
        <p:spPr>
          <a:xfrm>
            <a:off x="4876920" y="4038480"/>
            <a:ext cx="5331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5"/>
          <p:cNvSpPr/>
          <p:nvPr/>
        </p:nvSpPr>
        <p:spPr>
          <a:xfrm>
            <a:off x="5486400" y="4038480"/>
            <a:ext cx="5335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6"/>
          <p:cNvSpPr/>
          <p:nvPr/>
        </p:nvSpPr>
        <p:spPr>
          <a:xfrm>
            <a:off x="1219320" y="49528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7"/>
          <p:cNvSpPr/>
          <p:nvPr/>
        </p:nvSpPr>
        <p:spPr>
          <a:xfrm flipV="1">
            <a:off x="1828800" y="41911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8"/>
          <p:cNvSpPr/>
          <p:nvPr/>
        </p:nvSpPr>
        <p:spPr>
          <a:xfrm flipV="1">
            <a:off x="1828800" y="4266720"/>
            <a:ext cx="8380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-Off Sour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4"/>
          <p:cNvSpPr/>
          <p:nvPr/>
        </p:nvSpPr>
        <p:spPr>
          <a:xfrm>
            <a:off x="2362320" y="2666880"/>
            <a:ext cx="1523880" cy="1447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5"/>
          <p:cNvSpPr/>
          <p:nvPr/>
        </p:nvSpPr>
        <p:spPr>
          <a:xfrm>
            <a:off x="5943600" y="2666880"/>
            <a:ext cx="1523880" cy="1447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2819520" y="320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6324480" y="32004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AutoShape 9"/>
          <p:cNvCxnSpPr>
            <a:stCxn id="109" idx="7"/>
            <a:endCxn id="110" idx="1"/>
          </p:cNvCxnSpPr>
          <p:nvPr/>
        </p:nvCxnSpPr>
        <p:spPr>
          <a:xfrm flipH="1" rot="16200000">
            <a:off x="4913640" y="1626840"/>
            <a:ext cx="2520" cy="2505960"/>
          </a:xfrm>
          <a:prstGeom prst="curvedConnector5">
            <a:avLst>
              <a:gd name="adj1" fmla="val -27800000"/>
              <a:gd name="adj2" fmla="val 50000"/>
              <a:gd name="adj3" fmla="val -278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AutoShape 10"/>
          <p:cNvCxnSpPr>
            <a:stCxn id="110" idx="3"/>
            <a:endCxn id="109" idx="5"/>
          </p:cNvCxnSpPr>
          <p:nvPr/>
        </p:nvCxnSpPr>
        <p:spPr>
          <a:xfrm rot="5400000">
            <a:off x="4913280" y="2649960"/>
            <a:ext cx="2520" cy="2505960"/>
          </a:xfrm>
          <a:prstGeom prst="curvedConnector5">
            <a:avLst>
              <a:gd name="adj1" fmla="val 27800000"/>
              <a:gd name="adj2" fmla="val 50000"/>
              <a:gd name="adj3" fmla="val 278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15" name="Object 0"/>
              <p:cNvSpPr txBox="1"/>
              <p:nvPr/>
            </p:nvSpPr>
            <p:spPr>
              <a:xfrm>
                <a:off x="4724280" y="4495680"/>
                <a:ext cx="29844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Text Box 12"/>
          <p:cNvSpPr/>
          <p:nvPr/>
        </p:nvSpPr>
        <p:spPr>
          <a:xfrm>
            <a:off x="5241960" y="2784600"/>
            <a:ext cx="54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1"/>
              <p:cNvSpPr txBox="1"/>
              <p:nvPr/>
            </p:nvSpPr>
            <p:spPr>
              <a:xfrm>
                <a:off x="4648320" y="1905120"/>
                <a:ext cx="3254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Text Box 14"/>
          <p:cNvSpPr/>
          <p:nvPr/>
        </p:nvSpPr>
        <p:spPr>
          <a:xfrm>
            <a:off x="1447920" y="20574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nstant bit rate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5"/>
          <p:cNvSpPr/>
          <p:nvPr/>
        </p:nvSpPr>
        <p:spPr>
          <a:xfrm>
            <a:off x="1143000" y="4191120"/>
            <a:ext cx="2438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ay in ON state for a period exponentially distributed with mean 1/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6324480" y="4114800"/>
            <a:ext cx="243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ay in OFF state for a period exponentially distributed with mean 1/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-Off Sour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609480" y="3124080"/>
            <a:ext cx="5335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1219320" y="3124080"/>
            <a:ext cx="5331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1828800" y="3124080"/>
            <a:ext cx="5335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2438280" y="3124080"/>
            <a:ext cx="5335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5638680" y="3124080"/>
            <a:ext cx="5335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6248520" y="3124080"/>
            <a:ext cx="5331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6858000" y="3124080"/>
            <a:ext cx="5335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1"/>
          <p:cNvSpPr/>
          <p:nvPr/>
        </p:nvSpPr>
        <p:spPr>
          <a:xfrm>
            <a:off x="609480" y="419112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685800" y="43434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onential with mean 1/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3"/>
          <p:cNvSpPr/>
          <p:nvPr/>
        </p:nvSpPr>
        <p:spPr>
          <a:xfrm>
            <a:off x="3048120" y="41911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5"/>
          <p:cNvSpPr/>
          <p:nvPr/>
        </p:nvSpPr>
        <p:spPr>
          <a:xfrm>
            <a:off x="3276720" y="43434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onential with mean 1/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6"/>
          <p:cNvSpPr/>
          <p:nvPr/>
        </p:nvSpPr>
        <p:spPr>
          <a:xfrm>
            <a:off x="14479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3809880" y="2438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8"/>
          <p:cNvSpPr/>
          <p:nvPr/>
        </p:nvSpPr>
        <p:spPr>
          <a:xfrm>
            <a:off x="617220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-Off Sour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the mean bit rate.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n-off source is usually specified by the 3 parameters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1/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ean burst length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4"/>
              <p:cNvSpPr txBox="1"/>
              <p:nvPr/>
            </p:nvSpPr>
            <p:spPr>
              <a:xfrm>
                <a:off x="3048120" y="2590920"/>
                <a:ext cx="2743200" cy="17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β</m:t>
                                </m:r>
                              </m:den>
                            </m:f>
                          </m:e>
                        </m:d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α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αR</m:t>
                        </m:r>
                      </m:num>
                      <m:den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isson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sson process with rate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rrival time is exponentially distributed mean 1/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1523880" y="4038480"/>
            <a:ext cx="5335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2819520" y="4038480"/>
            <a:ext cx="5331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4876920" y="4038480"/>
            <a:ext cx="5331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5943600" y="4038480"/>
            <a:ext cx="5335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1"/>
          <p:cNvSpPr/>
          <p:nvPr/>
        </p:nvSpPr>
        <p:spPr>
          <a:xfrm>
            <a:off x="2057400" y="47242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2"/>
          <p:cNvSpPr/>
          <p:nvPr/>
        </p:nvSpPr>
        <p:spPr>
          <a:xfrm>
            <a:off x="3352680" y="47242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3"/>
          <p:cNvSpPr/>
          <p:nvPr/>
        </p:nvSpPr>
        <p:spPr>
          <a:xfrm>
            <a:off x="5410080" y="4724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2666880" y="5562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arrival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5"/>
          <p:cNvSpPr/>
          <p:nvPr/>
        </p:nvSpPr>
        <p:spPr>
          <a:xfrm flipH="1" flipV="1">
            <a:off x="2437920" y="4876920"/>
            <a:ext cx="7621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16"/>
          <p:cNvSpPr/>
          <p:nvPr/>
        </p:nvSpPr>
        <p:spPr>
          <a:xfrm flipV="1">
            <a:off x="3657600" y="4876920"/>
            <a:ext cx="4572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17"/>
          <p:cNvSpPr/>
          <p:nvPr/>
        </p:nvSpPr>
        <p:spPr>
          <a:xfrm flipV="1">
            <a:off x="4343400" y="48769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rupted Poisson Process (IPP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Oval 4"/>
          <p:cNvSpPr/>
          <p:nvPr/>
        </p:nvSpPr>
        <p:spPr>
          <a:xfrm>
            <a:off x="2362320" y="2666880"/>
            <a:ext cx="1523880" cy="1447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Oval 5"/>
          <p:cNvSpPr/>
          <p:nvPr/>
        </p:nvSpPr>
        <p:spPr>
          <a:xfrm>
            <a:off x="5943600" y="2666880"/>
            <a:ext cx="1523880" cy="1447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2819520" y="320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6324480" y="32004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AutoShape 8"/>
          <p:cNvCxnSpPr>
            <a:stCxn id="153" idx="7"/>
            <a:endCxn id="154" idx="1"/>
          </p:cNvCxnSpPr>
          <p:nvPr/>
        </p:nvCxnSpPr>
        <p:spPr>
          <a:xfrm flipH="1" rot="16200000">
            <a:off x="4913640" y="1626840"/>
            <a:ext cx="2520" cy="2505960"/>
          </a:xfrm>
          <a:prstGeom prst="curvedConnector5">
            <a:avLst>
              <a:gd name="adj1" fmla="val -27800000"/>
              <a:gd name="adj2" fmla="val 50000"/>
              <a:gd name="adj3" fmla="val -278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" name="AutoShape 9"/>
          <p:cNvCxnSpPr>
            <a:stCxn id="154" idx="3"/>
            <a:endCxn id="153" idx="5"/>
          </p:cNvCxnSpPr>
          <p:nvPr/>
        </p:nvCxnSpPr>
        <p:spPr>
          <a:xfrm rot="5400000">
            <a:off x="4913280" y="2649960"/>
            <a:ext cx="2520" cy="2505960"/>
          </a:xfrm>
          <a:prstGeom prst="curvedConnector5">
            <a:avLst>
              <a:gd name="adj1" fmla="val 27800000"/>
              <a:gd name="adj2" fmla="val 50000"/>
              <a:gd name="adj3" fmla="val 278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59" name="Object 10"/>
              <p:cNvSpPr txBox="1"/>
              <p:nvPr/>
            </p:nvSpPr>
            <p:spPr>
              <a:xfrm>
                <a:off x="4724280" y="4495680"/>
                <a:ext cx="29844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Text Box 11"/>
          <p:cNvSpPr/>
          <p:nvPr/>
        </p:nvSpPr>
        <p:spPr>
          <a:xfrm>
            <a:off x="5241960" y="2784600"/>
            <a:ext cx="54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12"/>
              <p:cNvSpPr txBox="1"/>
              <p:nvPr/>
            </p:nvSpPr>
            <p:spPr>
              <a:xfrm>
                <a:off x="4648320" y="1905120"/>
                <a:ext cx="3254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Text Box 13"/>
          <p:cNvSpPr/>
          <p:nvPr/>
        </p:nvSpPr>
        <p:spPr>
          <a:xfrm>
            <a:off x="990720" y="19810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isson process with rate </a:t>
            </a:r>
            <a:r>
              <a:rPr b="0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1143000" y="4191120"/>
            <a:ext cx="2438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ay in ON state for a period exponentially distributed with mean 1/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5"/>
          <p:cNvSpPr/>
          <p:nvPr/>
        </p:nvSpPr>
        <p:spPr>
          <a:xfrm>
            <a:off x="6324480" y="4114800"/>
            <a:ext cx="243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ay in OFF state for a period exponentially distributed with mean 1/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kov Modulated Poisson Process (MMPP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3-state MMP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5"/>
          <p:cNvSpPr/>
          <p:nvPr/>
        </p:nvSpPr>
        <p:spPr>
          <a:xfrm>
            <a:off x="3429000" y="3581280"/>
            <a:ext cx="10666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Oval 6"/>
          <p:cNvSpPr/>
          <p:nvPr/>
        </p:nvSpPr>
        <p:spPr>
          <a:xfrm>
            <a:off x="5410080" y="5029200"/>
            <a:ext cx="106704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Oval 7"/>
          <p:cNvSpPr/>
          <p:nvPr/>
        </p:nvSpPr>
        <p:spPr>
          <a:xfrm>
            <a:off x="6248520" y="3124080"/>
            <a:ext cx="10666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1523880" y="3124080"/>
            <a:ext cx="2210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isson process with rate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" name="AutoShape 9"/>
          <p:cNvCxnSpPr>
            <a:stCxn id="167" idx="7"/>
            <a:endCxn id="169" idx="1"/>
          </p:cNvCxnSpPr>
          <p:nvPr/>
        </p:nvCxnSpPr>
        <p:spPr>
          <a:xfrm flipH="1" flipV="1" rot="5400000">
            <a:off x="5142960" y="2475720"/>
            <a:ext cx="457920" cy="2064600"/>
          </a:xfrm>
          <a:prstGeom prst="curvedConnector5">
            <a:avLst>
              <a:gd name="adj1" fmla="val 183949"/>
              <a:gd name="adj2" fmla="val 50000"/>
              <a:gd name="adj3" fmla="val 18394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AutoShape 10"/>
          <p:cNvCxnSpPr/>
          <p:nvPr/>
        </p:nvCxnSpPr>
        <p:spPr>
          <a:xfrm flipV="1" rot="10800000">
            <a:off x="4494960" y="3657240"/>
            <a:ext cx="1753560" cy="457920"/>
          </a:xfrm>
          <a:prstGeom prst="curvedConnector5">
            <a:avLst>
              <a:gd name="adj1" fmla="val 50000"/>
              <a:gd name="adj2" fmla="val 4996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3" name="AutoShape 12"/>
          <p:cNvCxnSpPr>
            <a:stCxn id="167" idx="5"/>
            <a:endCxn id="168" idx="1"/>
          </p:cNvCxnSpPr>
          <p:nvPr/>
        </p:nvCxnSpPr>
        <p:spPr>
          <a:xfrm flipH="1" rot="16200000">
            <a:off x="4606920" y="4225680"/>
            <a:ext cx="692640" cy="1226160"/>
          </a:xfrm>
          <a:prstGeom prst="curvedConnector5">
            <a:avLst>
              <a:gd name="adj1" fmla="val 49973"/>
              <a:gd name="adj2" fmla="val 49985"/>
              <a:gd name="adj3" fmla="val 49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AutoShape 13"/>
          <p:cNvCxnSpPr>
            <a:stCxn id="168" idx="3"/>
            <a:endCxn id="167" idx="4"/>
          </p:cNvCxnSpPr>
          <p:nvPr/>
        </p:nvCxnSpPr>
        <p:spPr>
          <a:xfrm flipV="1" rot="16200000">
            <a:off x="4117320" y="4492080"/>
            <a:ext cx="1292760" cy="1603800"/>
          </a:xfrm>
          <a:prstGeom prst="curvedConnector5">
            <a:avLst>
              <a:gd name="adj1" fmla="val -29721"/>
              <a:gd name="adj2" fmla="val 50000"/>
              <a:gd name="adj3" fmla="val -297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AutoShape 14"/>
          <p:cNvCxnSpPr>
            <a:stCxn id="168" idx="7"/>
            <a:endCxn id="169" idx="4"/>
          </p:cNvCxnSpPr>
          <p:nvPr/>
        </p:nvCxnSpPr>
        <p:spPr>
          <a:xfrm flipH="1" flipV="1" rot="5400000">
            <a:off x="6054840" y="4457880"/>
            <a:ext cx="993960" cy="460800"/>
          </a:xfrm>
          <a:prstGeom prst="curvedConnector5">
            <a:avLst>
              <a:gd name="adj1" fmla="val 57826"/>
              <a:gd name="adj2" fmla="val 49960"/>
              <a:gd name="adj3" fmla="val 578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AutoShape 15"/>
          <p:cNvCxnSpPr>
            <a:stCxn id="169" idx="5"/>
            <a:endCxn id="168" idx="6"/>
          </p:cNvCxnSpPr>
          <p:nvPr/>
        </p:nvCxnSpPr>
        <p:spPr>
          <a:xfrm rot="5400000">
            <a:off x="6054480" y="4457880"/>
            <a:ext cx="1527840" cy="682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Text Box 16"/>
          <p:cNvSpPr/>
          <p:nvPr/>
        </p:nvSpPr>
        <p:spPr>
          <a:xfrm>
            <a:off x="3733920" y="3886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17"/>
          <p:cNvSpPr/>
          <p:nvPr/>
        </p:nvSpPr>
        <p:spPr>
          <a:xfrm>
            <a:off x="6629400" y="342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8"/>
          <p:cNvSpPr/>
          <p:nvPr/>
        </p:nvSpPr>
        <p:spPr>
          <a:xfrm>
            <a:off x="5791320" y="5334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9"/>
          <p:cNvSpPr/>
          <p:nvPr/>
        </p:nvSpPr>
        <p:spPr>
          <a:xfrm>
            <a:off x="6324480" y="2133720"/>
            <a:ext cx="2210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isson process with rate </a:t>
            </a:r>
            <a:r>
              <a:rPr b="0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20"/>
          <p:cNvSpPr/>
          <p:nvPr/>
        </p:nvSpPr>
        <p:spPr>
          <a:xfrm>
            <a:off x="6629400" y="5410080"/>
            <a:ext cx="22096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isson process with rate </a:t>
            </a:r>
            <a:r>
              <a:rPr b="0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21"/>
          <p:cNvSpPr/>
          <p:nvPr/>
        </p:nvSpPr>
        <p:spPr>
          <a:xfrm>
            <a:off x="4114800" y="27432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22"/>
          <p:cNvSpPr/>
          <p:nvPr/>
        </p:nvSpPr>
        <p:spPr>
          <a:xfrm>
            <a:off x="5257800" y="32004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23"/>
          <p:cNvSpPr/>
          <p:nvPr/>
        </p:nvSpPr>
        <p:spPr>
          <a:xfrm>
            <a:off x="4495680" y="472428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24"/>
          <p:cNvSpPr/>
          <p:nvPr/>
        </p:nvSpPr>
        <p:spPr>
          <a:xfrm>
            <a:off x="3657600" y="541008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25"/>
          <p:cNvSpPr/>
          <p:nvPr/>
        </p:nvSpPr>
        <p:spPr>
          <a:xfrm>
            <a:off x="7238880" y="419112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26"/>
          <p:cNvSpPr/>
          <p:nvPr/>
        </p:nvSpPr>
        <p:spPr>
          <a:xfrm>
            <a:off x="5943600" y="419112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27"/>
          <p:cNvSpPr/>
          <p:nvPr/>
        </p:nvSpPr>
        <p:spPr>
          <a:xfrm>
            <a:off x="762120" y="4267080"/>
            <a:ext cx="23619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ay in state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for a period exponentially distributed with mean 1/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uideline for Using op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should read the material “Introduction of opnet”, and “Small internet work” before start Aloha tutorial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ercise 1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Individual work, 5% percent for semester B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fter trying “Small internet work” , do a further study on the following cas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mpany has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loor which contains another 15 computers of the same type connected with a st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st hand in a hard copy of the figures about the delay and loa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(Due week3/week4 on Monda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um Access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dium Access Control (MAC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share a common medium among the use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C layer is very important in LANs, nearly all of which use a multiaccess channel as the basis of their communi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OHA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OHA is developed in the 1970s at the University of Hawaii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asic idea is si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et users transmit whenever they have data to be s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wo or more users send their packets at the same time, a collision occurs and the packets are destroy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OHA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re is a collision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ender waits a random amount of time and sends it ag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aiting time must b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rand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Otherwise, the same packets will collide ag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ketch of Frame Gen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C:\net_figure\4-1.jpg"/>
          <p:cNvPicPr/>
          <p:nvPr/>
        </p:nvPicPr>
        <p:blipFill>
          <a:blip r:embed="rId1"/>
          <a:stretch/>
        </p:blipFill>
        <p:spPr>
          <a:xfrm>
            <a:off x="1828800" y="1752480"/>
            <a:ext cx="5181480" cy="32162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7"/>
          <p:cNvSpPr/>
          <p:nvPr/>
        </p:nvSpPr>
        <p:spPr>
          <a:xfrm>
            <a:off x="990720" y="502920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at all packets have the same length because the throughput of ALOHA systems is maximized by having a uniform packet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oughp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oughpu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umber of packets successfully transmitted through the channel per packet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throughput of an ALOHA channe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inite population of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rames are generated according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oisson distribu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ith me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ckets per packet tim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ckets are generated during a given packet tim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4"/>
              <p:cNvSpPr txBox="1"/>
              <p:nvPr/>
            </p:nvSpPr>
            <p:spPr>
              <a:xfrm>
                <a:off x="3657600" y="5029200"/>
                <a:ext cx="22860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[</m:t>
                    </m:r>
                    <m:r>
                      <m:t xml:space="preserve">k</m:t>
                    </m:r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</m:sup>
                        </m:sSup>
                      </m:num>
                      <m:den>
                        <m:r>
                          <m:t xml:space="preserve">k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servation o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gt; 1, packets are generated at a higher rate than the channel can hand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fore, we exp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 &lt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lt;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channel can handle all the packets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throughp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31T03:15:29Z</dcterms:created>
  <dc:creator>CS</dc:creator>
  <dc:description/>
  <dc:language>en-US</dc:language>
  <cp:lastModifiedBy>UGent</cp:lastModifiedBy>
  <dcterms:modified xsi:type="dcterms:W3CDTF">2009-10-02T11:04:29Z</dcterms:modified>
  <cp:revision>33</cp:revision>
  <dc:subject/>
  <dc:title>PowerPoint Presentation</dc:title>
</cp:coreProperties>
</file>