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B36C-470A-4230-87C8-824F745864DF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E33-9012-48A1-9916-23861DC46374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13B-2137-45E1-AF5C-45F28CFE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3F0-C084-4C75-9699-E5936EA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4ED-556F-449E-AE92-4C70179D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A07-D72E-4001-ACF6-F773042B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C16-5689-4532-955D-C12D7F5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7F7-79BF-4C70-9CB7-E0289CC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75A-D4A0-448A-AD2B-F975550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072-E93D-47A4-87C8-A367B315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8F8-A365-434A-80E8-C5D9D50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6BE-0A80-47AF-93B1-2791D0F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99A-CA54-4B96-870A-6A4FDE7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F23-E800-4A18-AD9A-0D684C2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FA13-DD2B-44C9-976B-14A9C23F2BC9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28" descr=""/>
          <p:cNvPicPr/>
          <p:nvPr/>
        </p:nvPicPr>
        <p:blipFill>
          <a:blip r:embed="rId2"/>
          <a:stretch/>
        </p:blipFill>
        <p:spPr>
          <a:xfrm>
            <a:off x="19089720" y="15425640"/>
            <a:ext cx="9872640" cy="613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30" descr=""/>
          <p:cNvPicPr/>
          <p:nvPr/>
        </p:nvPicPr>
        <p:blipFill>
          <a:blip r:embed="rId3"/>
          <a:stretch/>
        </p:blipFill>
        <p:spPr>
          <a:xfrm>
            <a:off x="19026360" y="10528200"/>
            <a:ext cx="10080360" cy="459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31" descr=""/>
          <p:cNvPicPr/>
          <p:nvPr/>
        </p:nvPicPr>
        <p:blipFill>
          <a:blip r:embed="rId4"/>
          <a:stretch/>
        </p:blipFill>
        <p:spPr>
          <a:xfrm>
            <a:off x="19026360" y="21977280"/>
            <a:ext cx="10225080" cy="82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0T08:53:05Z</dcterms:modified>
  <cp:revision>204</cp:revision>
  <dc:subject/>
  <dc:title>No Slide Title</dc:title>
</cp:coreProperties>
</file>