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0275213" cy="42803763"/>
  <p:notesSz cx="29818013" cy="42343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29818800" cy="423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1292220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16890840" y="-360"/>
            <a:ext cx="1292256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9294840" y="3174840"/>
            <a:ext cx="11229840" cy="15878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r>
              <a:rPr b="0" lang="en-US" sz="18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2981160" y="20112120"/>
            <a:ext cx="23857200" cy="190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40217760"/>
            <a:ext cx="129222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16890840" y="40217760"/>
            <a:ext cx="129225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A5B0-C66A-45F8-83F7-1F298E5482D2}" type="slidenum">
              <a:rPr b="0" lang="nl-B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94840" y="3174840"/>
            <a:ext cx="11229840" cy="158781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2981160" y="20112120"/>
            <a:ext cx="23857200" cy="1905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16890840" y="40217760"/>
            <a:ext cx="1292256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2133-3739-4303-8399-150C1C726DF1}" type="slidenum">
              <a:rPr b="0" lang="nl-B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0B29-0FF6-439D-B242-632AD8DC8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2573496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73400" y="25781040"/>
            <a:ext cx="2573496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1DB1-48AC-4AB8-8C3F-E4F690EC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73400" y="2578104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460200" y="2578104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6D4C-72E9-4F74-A1C0-2D1CC6238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974600" y="1236816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9675800" y="1236816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73400" y="2578104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10974600" y="2578104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19675800" y="2578104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462D-F8F3-43F0-833D-C54515954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73400" y="12368160"/>
            <a:ext cx="25734960" cy="256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24"/>
              </a:spcBef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25FA-25D6-41C6-95E9-84660735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2573496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38DE-EB6A-4D5F-BB20-5AFBB553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DD6A-B76A-4308-8C49-C1557F68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A5C4-60DD-41D2-A084-0508B17A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73400" y="3804840"/>
            <a:ext cx="25734960" cy="330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24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525D-4A9F-47D0-BD30-D25D7C66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73400" y="2578104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6DE6-255A-46DE-93EB-A049C880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460200" y="2578104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52BE-013C-49BF-AFC8-A11F8E86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73400" y="25781040"/>
            <a:ext cx="2573496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054C-1606-4C39-8CA2-E28296E9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c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r>
              <a:rPr b="0" lang="en-US" sz="18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73400" y="12368160"/>
            <a:ext cx="2573496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marL="1455840" indent="-1455840">
              <a:spcBef>
                <a:spcPts val="3424"/>
              </a:spcBef>
              <a:buClr>
                <a:srgbClr val="000000"/>
              </a:buClr>
              <a:buFont typeface="Times New Roman"/>
              <a:buChar char="•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1" marL="3154320" indent="-1212840">
              <a:spcBef>
                <a:spcPts val="3424"/>
              </a:spcBef>
              <a:buClr>
                <a:srgbClr val="000000"/>
              </a:buClr>
              <a:buFont typeface="Times New Roman"/>
              <a:buChar char="–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2" marL="4851360" indent="-966600">
              <a:spcBef>
                <a:spcPts val="3424"/>
              </a:spcBef>
              <a:buClr>
                <a:srgbClr val="000000"/>
              </a:buClr>
              <a:buFont typeface="Times New Roman"/>
              <a:buChar char="•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3" marL="6794640" indent="-968400">
              <a:spcBef>
                <a:spcPts val="3424"/>
              </a:spcBef>
              <a:buClr>
                <a:srgbClr val="000000"/>
              </a:buClr>
              <a:buFont typeface="Times New Roman"/>
              <a:buChar char="–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4" marL="8736120" indent="-973080">
              <a:spcBef>
                <a:spcPts val="3424"/>
              </a:spcBef>
              <a:buClr>
                <a:srgbClr val="000000"/>
              </a:buClr>
              <a:buFont typeface="Times New Roman"/>
              <a:buChar char="»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5" marL="8736120" indent="-973080">
              <a:spcBef>
                <a:spcPts val="3424"/>
              </a:spcBef>
              <a:buClr>
                <a:srgbClr val="000000"/>
              </a:buClr>
              <a:buFont typeface="Times New Roman"/>
              <a:buChar char="»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6" marL="8736120" indent="-973080">
              <a:spcBef>
                <a:spcPts val="3424"/>
              </a:spcBef>
              <a:buClr>
                <a:srgbClr val="000000"/>
              </a:buClr>
              <a:buFont typeface="Times New Roman"/>
              <a:buChar char="»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73400" y="38998080"/>
            <a:ext cx="6307200" cy="285444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347480" y="38998080"/>
            <a:ext cx="9580320" cy="285444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694680" y="38998080"/>
            <a:ext cx="6313680" cy="285444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5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DC55-6C9F-4F6A-81F9-5EAE6E7928A5}" type="slidenum">
              <a:rPr b="0" lang="en-US" sz="5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8" descr="LaserCircles_bgr2"/>
          <p:cNvPicPr/>
          <p:nvPr/>
        </p:nvPicPr>
        <p:blipFill>
          <a:blip r:embed="rId2"/>
          <a:srcRect l="0" t="429" r="0" b="0"/>
          <a:stretch/>
        </p:blipFill>
        <p:spPr>
          <a:xfrm>
            <a:off x="0" y="0"/>
            <a:ext cx="30275280" cy="42803640"/>
          </a:xfrm>
          <a:prstGeom prst="rect">
            <a:avLst/>
          </a:prstGeom>
          <a:ln w="0">
            <a:noFill/>
          </a:ln>
        </p:spPr>
      </p:pic>
      <p:grpSp>
        <p:nvGrpSpPr>
          <p:cNvPr id="6" name="Group 12"/>
          <p:cNvGrpSpPr/>
          <p:nvPr/>
        </p:nvGrpSpPr>
        <p:grpSpPr>
          <a:xfrm>
            <a:off x="0" y="1089000"/>
            <a:ext cx="6784920" cy="2448000"/>
            <a:chOff x="0" y="1089000"/>
            <a:chExt cx="6784920" cy="2448000"/>
          </a:xfrm>
        </p:grpSpPr>
        <p:pic>
          <p:nvPicPr>
            <p:cNvPr id="7" name="Picture 10" descr="UGent_blauwegraffitihelft"/>
            <p:cNvPicPr/>
            <p:nvPr/>
          </p:nvPicPr>
          <p:blipFill>
            <a:blip r:embed="rId3"/>
            <a:stretch/>
          </p:blipFill>
          <p:spPr>
            <a:xfrm>
              <a:off x="0" y="1092240"/>
              <a:ext cx="3325680" cy="24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9" descr="UGent_blauwlogo"/>
            <p:cNvPicPr/>
            <p:nvPr/>
          </p:nvPicPr>
          <p:blipFill>
            <a:blip r:embed="rId4"/>
            <a:stretch/>
          </p:blipFill>
          <p:spPr>
            <a:xfrm>
              <a:off x="3330720" y="1089000"/>
              <a:ext cx="3454200" cy="2446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" name="Picture 13" descr="firw_nl"/>
          <p:cNvPicPr/>
          <p:nvPr/>
        </p:nvPicPr>
        <p:blipFill>
          <a:blip r:embed="rId5"/>
          <a:stretch/>
        </p:blipFill>
        <p:spPr>
          <a:xfrm>
            <a:off x="3400560" y="4192560"/>
            <a:ext cx="3313080" cy="309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7143840" y="1095480"/>
            <a:ext cx="21763080" cy="33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r"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8000" spc="-1" strike="noStrike">
                <a:solidFill>
                  <a:srgbClr val="164a7c"/>
                </a:solidFill>
                <a:latin typeface="Verdana"/>
              </a:rPr>
              <a:t>Analysis and performance evaluation of</a:t>
            </a:r>
            <a:r>
              <a:rPr b="0" lang="en-US" sz="9600" spc="-1" strike="noStrike">
                <a:solidFill>
                  <a:srgbClr val="164a7c"/>
                </a:solidFill>
                <a:latin typeface="Verdana"/>
              </a:rPr>
              <a:t> </a:t>
            </a:r>
            <a:br>
              <a:rPr sz="9600"/>
            </a:br>
            <a:r>
              <a:rPr b="0" lang="en-US" sz="12000" spc="-1" strike="noStrike">
                <a:solidFill>
                  <a:srgbClr val="164a7c"/>
                </a:solidFill>
                <a:latin typeface="Verdana"/>
              </a:rPr>
              <a:t>Kitting Processes</a:t>
            </a:r>
            <a:endParaRPr b="0" lang="en-US" sz="1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1393640" y="4551480"/>
            <a:ext cx="17513280" cy="15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r"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Eline De Cuypere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104"/>
          <p:cNvSpPr/>
          <p:nvPr/>
        </p:nvSpPr>
        <p:spPr>
          <a:xfrm>
            <a:off x="10169640" y="8080200"/>
            <a:ext cx="16633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MACS research grou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partment of Telecommunication and Information Process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.-Pietersnieuwstraat 41, 9000 Gent; Eline.DeCuypere@UGent.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153"/>
          <p:cNvSpPr/>
          <p:nvPr/>
        </p:nvSpPr>
        <p:spPr>
          <a:xfrm>
            <a:off x="14025600" y="2093436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203"/>
          <p:cNvSpPr/>
          <p:nvPr/>
        </p:nvSpPr>
        <p:spPr>
          <a:xfrm>
            <a:off x="14608080" y="1976292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223"/>
          <p:cNvSpPr/>
          <p:nvPr/>
        </p:nvSpPr>
        <p:spPr>
          <a:xfrm>
            <a:off x="0" y="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258"/>
          <p:cNvSpPr/>
          <p:nvPr/>
        </p:nvSpPr>
        <p:spPr>
          <a:xfrm>
            <a:off x="0" y="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262"/>
          <p:cNvSpPr/>
          <p:nvPr/>
        </p:nvSpPr>
        <p:spPr>
          <a:xfrm>
            <a:off x="0" y="0"/>
            <a:ext cx="21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263"/>
          <p:cNvSpPr/>
          <p:nvPr/>
        </p:nvSpPr>
        <p:spPr>
          <a:xfrm>
            <a:off x="0" y="48276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264"/>
          <p:cNvSpPr/>
          <p:nvPr/>
        </p:nvSpPr>
        <p:spPr>
          <a:xfrm>
            <a:off x="1800" y="745920"/>
            <a:ext cx="266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354"/>
          <p:cNvSpPr/>
          <p:nvPr/>
        </p:nvSpPr>
        <p:spPr>
          <a:xfrm>
            <a:off x="0" y="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469" descr="SMACSlogo_vierkant"/>
          <p:cNvPicPr/>
          <p:nvPr/>
        </p:nvPicPr>
        <p:blipFill>
          <a:blip r:embed="rId1"/>
          <a:stretch/>
        </p:blipFill>
        <p:spPr>
          <a:xfrm>
            <a:off x="27182880" y="8155080"/>
            <a:ext cx="1511280" cy="13809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443"/>
          <p:cNvSpPr/>
          <p:nvPr/>
        </p:nvSpPr>
        <p:spPr>
          <a:xfrm>
            <a:off x="8872560" y="6640560"/>
            <a:ext cx="20034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r"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joint work with Dieter Fiem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Afgeronde rechthoek 438"/>
          <p:cNvSpPr/>
          <p:nvPr/>
        </p:nvSpPr>
        <p:spPr>
          <a:xfrm>
            <a:off x="231840" y="10528200"/>
            <a:ext cx="29827440" cy="12025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164a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Rechthoek 441"/>
          <p:cNvSpPr/>
          <p:nvPr/>
        </p:nvSpPr>
        <p:spPr>
          <a:xfrm>
            <a:off x="4695840" y="9952200"/>
            <a:ext cx="5329080" cy="1081080"/>
          </a:xfrm>
          <a:prstGeom prst="rect">
            <a:avLst/>
          </a:prstGeom>
          <a:gradFill rotWithShape="0">
            <a:gsLst>
              <a:gs pos="0">
                <a:srgbClr val="77ae96"/>
              </a:gs>
              <a:gs pos="100000">
                <a:srgbClr val="9ce5c6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Tekstvak 442"/>
          <p:cNvSpPr/>
          <p:nvPr/>
        </p:nvSpPr>
        <p:spPr>
          <a:xfrm>
            <a:off x="4840200" y="10167840"/>
            <a:ext cx="50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Kit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Picture 442" descr=""/>
          <p:cNvPicPr/>
          <p:nvPr/>
        </p:nvPicPr>
        <p:blipFill>
          <a:blip r:embed="rId2"/>
          <a:stretch/>
        </p:blipFill>
        <p:spPr>
          <a:xfrm>
            <a:off x="10817280" y="16144920"/>
            <a:ext cx="8431200" cy="4681440"/>
          </a:xfrm>
          <a:prstGeom prst="rect">
            <a:avLst/>
          </a:prstGeom>
          <a:ln w="0">
            <a:noFill/>
          </a:ln>
        </p:spPr>
      </p:pic>
      <p:sp>
        <p:nvSpPr>
          <p:cNvPr id="70" name="Tekstvak 480"/>
          <p:cNvSpPr/>
          <p:nvPr/>
        </p:nvSpPr>
        <p:spPr>
          <a:xfrm>
            <a:off x="14778000" y="20242080"/>
            <a:ext cx="62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Verdana"/>
              </a:rPr>
              <a:t>Model 2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« Production interruptions 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at part 1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1" name="Groep 484"/>
          <p:cNvGrpSpPr/>
          <p:nvPr/>
        </p:nvGrpSpPr>
        <p:grpSpPr>
          <a:xfrm>
            <a:off x="1095480" y="17010000"/>
            <a:ext cx="7634160" cy="3313080"/>
            <a:chOff x="1095480" y="17010000"/>
            <a:chExt cx="7634160" cy="3313080"/>
          </a:xfrm>
        </p:grpSpPr>
        <p:pic>
          <p:nvPicPr>
            <p:cNvPr id="72" name="Picture 433" descr=""/>
            <p:cNvPicPr/>
            <p:nvPr/>
          </p:nvPicPr>
          <p:blipFill>
            <a:blip r:embed="rId3"/>
            <a:stretch/>
          </p:blipFill>
          <p:spPr>
            <a:xfrm>
              <a:off x="1095480" y="17010000"/>
              <a:ext cx="7634160" cy="33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Object 443" descr=""/>
            <p:cNvPicPr/>
            <p:nvPr/>
          </p:nvPicPr>
          <p:blipFill>
            <a:blip r:embed="rId4"/>
            <a:stretch/>
          </p:blipFill>
          <p:spPr>
            <a:xfrm>
              <a:off x="2891520" y="17056440"/>
              <a:ext cx="831240" cy="376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Picture 444" descr=""/>
          <p:cNvPicPr/>
          <p:nvPr/>
        </p:nvPicPr>
        <p:blipFill>
          <a:blip r:embed="rId5"/>
          <a:stretch/>
        </p:blipFill>
        <p:spPr>
          <a:xfrm>
            <a:off x="20682000" y="15857640"/>
            <a:ext cx="8353440" cy="6203880"/>
          </a:xfrm>
          <a:prstGeom prst="rect">
            <a:avLst/>
          </a:prstGeom>
          <a:ln w="0">
            <a:noFill/>
          </a:ln>
        </p:spPr>
      </p:pic>
      <p:sp>
        <p:nvSpPr>
          <p:cNvPr id="75" name="Tekstvak 500"/>
          <p:cNvSpPr/>
          <p:nvPr/>
        </p:nvSpPr>
        <p:spPr>
          <a:xfrm>
            <a:off x="22842360" y="14201640"/>
            <a:ext cx="583272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Two equal and indepentent </a:t>
            </a:r>
            <a:r>
              <a:rPr b="1" lang="fr-BE" sz="2400" spc="-1" strike="noStrike">
                <a:solidFill>
                  <a:srgbClr val="000000"/>
                </a:solidFill>
                <a:latin typeface="Verdana"/>
              </a:rPr>
              <a:t>Interrupted Poisson Process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Rechthoek 80"/>
          <p:cNvSpPr/>
          <p:nvPr/>
        </p:nvSpPr>
        <p:spPr>
          <a:xfrm>
            <a:off x="20970720" y="10024920"/>
            <a:ext cx="4319640" cy="1008360"/>
          </a:xfrm>
          <a:prstGeom prst="rect">
            <a:avLst/>
          </a:prstGeom>
          <a:gradFill rotWithShape="0">
            <a:gsLst>
              <a:gs pos="0">
                <a:srgbClr val="77ae96"/>
              </a:gs>
              <a:gs pos="100000">
                <a:srgbClr val="9ce5c6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kstvak 81"/>
          <p:cNvSpPr/>
          <p:nvPr/>
        </p:nvSpPr>
        <p:spPr>
          <a:xfrm>
            <a:off x="20682000" y="10024920"/>
            <a:ext cx="53276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300" spc="-1" strike="noStrike">
                <a:solidFill>
                  <a:srgbClr val="000000"/>
                </a:solidFill>
                <a:latin typeface="Verdana"/>
              </a:rPr>
              <a:t>Kitting Models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kstvak 500"/>
          <p:cNvSpPr/>
          <p:nvPr/>
        </p:nvSpPr>
        <p:spPr>
          <a:xfrm>
            <a:off x="1312920" y="14309640"/>
            <a:ext cx="540072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Two equal and indepent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Verdana"/>
              </a:rPr>
              <a:t>Poisson Process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64"/>
          <p:cNvSpPr/>
          <p:nvPr/>
        </p:nvSpPr>
        <p:spPr>
          <a:xfrm>
            <a:off x="0" y="109548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Rectangle 66"/>
          <p:cNvSpPr/>
          <p:nvPr/>
        </p:nvSpPr>
        <p:spPr>
          <a:xfrm>
            <a:off x="0" y="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1" name="Groep 505"/>
          <p:cNvGrpSpPr/>
          <p:nvPr/>
        </p:nvGrpSpPr>
        <p:grpSpPr>
          <a:xfrm>
            <a:off x="231840" y="22985280"/>
            <a:ext cx="23113800" cy="11017440"/>
            <a:chOff x="231840" y="22985280"/>
            <a:chExt cx="23113800" cy="11017440"/>
          </a:xfrm>
        </p:grpSpPr>
        <p:sp>
          <p:nvSpPr>
            <p:cNvPr id="82" name="Afgeronde rechthoek 506"/>
            <p:cNvSpPr/>
            <p:nvPr/>
          </p:nvSpPr>
          <p:spPr>
            <a:xfrm>
              <a:off x="231840" y="23455080"/>
              <a:ext cx="23113800" cy="1054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Rechthoek 507"/>
            <p:cNvSpPr/>
            <p:nvPr/>
          </p:nvSpPr>
          <p:spPr>
            <a:xfrm>
              <a:off x="7719840" y="22985280"/>
              <a:ext cx="8856720" cy="1517400"/>
            </a:xfrm>
            <a:prstGeom prst="rect">
              <a:avLst/>
            </a:prstGeom>
            <a:gradFill rotWithShape="0">
              <a:gsLst>
                <a:gs pos="0">
                  <a:srgbClr val="77ae96"/>
                </a:gs>
                <a:gs pos="100000">
                  <a:srgbClr val="9ce5c6"/>
                </a:gs>
              </a:gsLst>
              <a:lin ang="16200000"/>
            </a:gradFill>
            <a:ln w="9360">
              <a:solidFill>
                <a:srgbClr val="a5dec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Tekstvak 508"/>
            <p:cNvSpPr/>
            <p:nvPr/>
          </p:nvSpPr>
          <p:spPr>
            <a:xfrm>
              <a:off x="7864560" y="23148000"/>
              <a:ext cx="8237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Numerical Examples: 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Probability that buffer 1 and 2 is full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5" name="Tekstvak 475"/>
          <p:cNvSpPr/>
          <p:nvPr/>
        </p:nvSpPr>
        <p:spPr>
          <a:xfrm>
            <a:off x="4695840" y="20250000"/>
            <a:ext cx="5400720" cy="15562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92d050"/>
                </a:solidFill>
                <a:latin typeface="Verdana"/>
              </a:rPr>
              <a:t>Model 1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« Efficient production 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Tekstvak 499"/>
          <p:cNvSpPr/>
          <p:nvPr/>
        </p:nvSpPr>
        <p:spPr>
          <a:xfrm>
            <a:off x="24066360" y="20169360"/>
            <a:ext cx="6042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b0f0"/>
                </a:solidFill>
                <a:latin typeface="Verdana"/>
              </a:rPr>
              <a:t>Model 3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« Production interruptions 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at both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kstvak 500"/>
          <p:cNvSpPr/>
          <p:nvPr/>
        </p:nvSpPr>
        <p:spPr>
          <a:xfrm>
            <a:off x="10530000" y="14236560"/>
            <a:ext cx="971856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Arrivals of part 1: </a:t>
            </a:r>
            <a:r>
              <a:rPr b="1" lang="fr-BE" sz="2400" spc="-1" strike="noStrike">
                <a:solidFill>
                  <a:srgbClr val="000000"/>
                </a:solidFill>
                <a:latin typeface="Verdana"/>
              </a:rPr>
              <a:t>Interrupted Poisson Process</a:t>
            </a: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Arrivals  of part 2: </a:t>
            </a:r>
            <a:r>
              <a:rPr b="1" lang="fr-BE" sz="2400" spc="-1" strike="noStrike">
                <a:solidFill>
                  <a:srgbClr val="000000"/>
                </a:solidFill>
                <a:latin typeface="Verdana"/>
              </a:rPr>
              <a:t>Poisson Proces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8" name="Groep 489"/>
          <p:cNvGrpSpPr/>
          <p:nvPr/>
        </p:nvGrpSpPr>
        <p:grpSpPr>
          <a:xfrm>
            <a:off x="1095480" y="11033280"/>
            <a:ext cx="13825440" cy="3095640"/>
            <a:chOff x="1095480" y="11033280"/>
            <a:chExt cx="13825440" cy="3095640"/>
          </a:xfrm>
        </p:grpSpPr>
        <p:sp>
          <p:nvSpPr>
            <p:cNvPr id="89" name="Rond hoek zelfde zijde rechthoek 87"/>
            <p:cNvSpPr/>
            <p:nvPr/>
          </p:nvSpPr>
          <p:spPr>
            <a:xfrm rot="5400000">
              <a:off x="6460200" y="5668200"/>
              <a:ext cx="3095640" cy="13825440"/>
            </a:xfrm>
            <a:custGeom>
              <a:avLst/>
              <a:gdLst>
                <a:gd name="textAreaLeft" fmla="*/ 150840 w 3095640"/>
                <a:gd name="textAreaRight" fmla="*/ 2944800 w 3095640"/>
                <a:gd name="textAreaTop" fmla="*/ 119160 h 13825440"/>
                <a:gd name="textAreaBottom" fmla="*/ 13825800 h 13825440"/>
              </a:gdLst>
              <a:ahLst/>
              <a:rect l="textAreaLeft" t="textAreaTop" r="textAreaRight" b="textAreaBottom"/>
              <a:pathLst>
                <a:path w="2270952" h="12853878">
                  <a:moveTo>
                    <a:pt x="378500" y="0"/>
                  </a:moveTo>
                  <a:lnTo>
                    <a:pt x="1892452" y="0"/>
                  </a:lnTo>
                  <a:lnTo>
                    <a:pt x="1892452" y="0"/>
                  </a:lnTo>
                  <a:arcTo wR="378500" hR="378500" stAng="-5400000" swAng="5400009"/>
                  <a:lnTo>
                    <a:pt x="2270952" y="12853878"/>
                  </a:lnTo>
                  <a:lnTo>
                    <a:pt x="0" y="12853878"/>
                  </a:lnTo>
                  <a:lnTo>
                    <a:pt x="0" y="378500"/>
                  </a:lnTo>
                  <a:lnTo>
                    <a:pt x="0" y="378500"/>
                  </a:lnTo>
                  <a:arcTo wR="378500" hR="378500" stAng="10800000" swAng="5400009"/>
                  <a:close/>
                </a:path>
              </a:pathLst>
            </a:custGeom>
            <a:solidFill>
              <a:srgbClr val="cbecde">
                <a:alpha val="90000"/>
              </a:srgbClr>
            </a:solidFill>
            <a:ln w="25560">
              <a:solidFill>
                <a:srgbClr val="cbecde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Rond hoek zelfde zijde rechthoek 4"/>
            <p:cNvSpPr/>
            <p:nvPr/>
          </p:nvSpPr>
          <p:spPr>
            <a:xfrm>
              <a:off x="1095480" y="11183760"/>
              <a:ext cx="13706640" cy="279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0120" rIns="240120" tIns="119880" bIns="11988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1176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2800440"/>
                  <a:tab algn="l" pos="5600880"/>
                  <a:tab algn="l" pos="8400960"/>
                </a:tabLst>
              </a:pPr>
              <a:endParaRPr b="0" lang="en-US" sz="63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285840" indent="-285840">
                <a:lnSpc>
                  <a:spcPct val="90000"/>
                </a:lnSpc>
                <a:spcAft>
                  <a:spcPts val="1176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2800440"/>
                  <a:tab algn="l" pos="5600880"/>
                  <a:tab algn="l" pos="8400960"/>
                </a:tabLst>
              </a:pPr>
              <a:endParaRPr b="0" lang="en-US" sz="63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1" name="Tekstvak 89"/>
          <p:cNvSpPr/>
          <p:nvPr/>
        </p:nvSpPr>
        <p:spPr>
          <a:xfrm>
            <a:off x="1384200" y="11464920"/>
            <a:ext cx="14401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Strategy for supplying materials to an assembly lin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The parts necessary for assembly are collected into a contain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or kit, prior to arriving at an assembly un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2" name="Groep 74"/>
          <p:cNvGrpSpPr/>
          <p:nvPr/>
        </p:nvGrpSpPr>
        <p:grpSpPr>
          <a:xfrm>
            <a:off x="1055520" y="25001640"/>
            <a:ext cx="19266120" cy="7921440"/>
            <a:chOff x="1055520" y="25001640"/>
            <a:chExt cx="19266120" cy="7921440"/>
          </a:xfrm>
        </p:grpSpPr>
        <p:pic>
          <p:nvPicPr>
            <p:cNvPr id="93" name="Picture 4" descr=""/>
            <p:cNvPicPr/>
            <p:nvPr/>
          </p:nvPicPr>
          <p:blipFill>
            <a:blip r:embed="rId6"/>
            <a:srcRect l="17725" t="8957" r="14179" b="7464"/>
            <a:stretch/>
          </p:blipFill>
          <p:spPr>
            <a:xfrm>
              <a:off x="1055520" y="25434000"/>
              <a:ext cx="9761400" cy="74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5" descr=""/>
            <p:cNvPicPr/>
            <p:nvPr/>
          </p:nvPicPr>
          <p:blipFill>
            <a:blip r:embed="rId7"/>
            <a:srcRect l="16981" t="9250" r="12933" b="7512"/>
            <a:stretch/>
          </p:blipFill>
          <p:spPr>
            <a:xfrm>
              <a:off x="10500840" y="25433640"/>
              <a:ext cx="9820800" cy="72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kstvak 97"/>
            <p:cNvSpPr/>
            <p:nvPr/>
          </p:nvSpPr>
          <p:spPr>
            <a:xfrm>
              <a:off x="5200200" y="25001640"/>
              <a:ext cx="2087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3000" spc="-1" strike="noStrike">
                  <a:solidFill>
                    <a:srgbClr val="000000"/>
                  </a:solidFill>
                  <a:latin typeface="Verdana"/>
                </a:rPr>
                <a:t>Buffer 1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Tekstvak 98"/>
            <p:cNvSpPr/>
            <p:nvPr/>
          </p:nvSpPr>
          <p:spPr>
            <a:xfrm>
              <a:off x="14345280" y="25001640"/>
              <a:ext cx="230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3000" spc="-1" strike="noStrike">
                  <a:solidFill>
                    <a:srgbClr val="000000"/>
                  </a:solidFill>
                  <a:latin typeface="Verdana"/>
                </a:rPr>
                <a:t>Buffer 2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7" name="Groep 66"/>
          <p:cNvGrpSpPr/>
          <p:nvPr/>
        </p:nvGrpSpPr>
        <p:grpSpPr>
          <a:xfrm>
            <a:off x="13549320" y="38179440"/>
            <a:ext cx="16710120" cy="4248000"/>
            <a:chOff x="13549320" y="38179440"/>
            <a:chExt cx="16710120" cy="4248000"/>
          </a:xfrm>
        </p:grpSpPr>
        <p:grpSp>
          <p:nvGrpSpPr>
            <p:cNvPr id="98" name="Groep 70"/>
            <p:cNvGrpSpPr/>
            <p:nvPr/>
          </p:nvGrpSpPr>
          <p:grpSpPr>
            <a:xfrm>
              <a:off x="13549320" y="38179440"/>
              <a:ext cx="16423200" cy="4248000"/>
              <a:chOff x="13549320" y="38179440"/>
              <a:chExt cx="16423200" cy="4248000"/>
            </a:xfrm>
          </p:grpSpPr>
          <p:sp>
            <p:nvSpPr>
              <p:cNvPr id="99" name="Afgeronde rechthoek 100"/>
              <p:cNvSpPr/>
              <p:nvPr/>
            </p:nvSpPr>
            <p:spPr>
              <a:xfrm>
                <a:off x="13549320" y="38555640"/>
                <a:ext cx="16423200" cy="3871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" name="Rechthoek 101"/>
              <p:cNvSpPr/>
              <p:nvPr/>
            </p:nvSpPr>
            <p:spPr>
              <a:xfrm>
                <a:off x="19239120" y="38179440"/>
                <a:ext cx="5159520" cy="836640"/>
              </a:xfrm>
              <a:prstGeom prst="rect">
                <a:avLst/>
              </a:prstGeom>
              <a:gradFill rotWithShape="0">
                <a:gsLst>
                  <a:gs pos="0">
                    <a:srgbClr val="77ae96"/>
                  </a:gs>
                  <a:gs pos="100000">
                    <a:srgbClr val="9ce5c6"/>
                  </a:gs>
                </a:gsLst>
                <a:lin ang="16200000"/>
              </a:gradFill>
              <a:ln w="9360">
                <a:solidFill>
                  <a:srgbClr val="a5dec6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Tekstvak 512"/>
              <p:cNvSpPr/>
              <p:nvPr/>
            </p:nvSpPr>
            <p:spPr>
              <a:xfrm>
                <a:off x="18378360" y="38250000"/>
                <a:ext cx="7194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3200" spc="-1" strike="noStrike">
                    <a:solidFill>
                      <a:srgbClr val="000000"/>
                    </a:solidFill>
                    <a:latin typeface="Verdana"/>
                  </a:rPr>
                  <a:t>Future research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2" name="Tekstvak 103"/>
            <p:cNvSpPr/>
            <p:nvPr/>
          </p:nvSpPr>
          <p:spPr>
            <a:xfrm>
              <a:off x="13765320" y="39043800"/>
              <a:ext cx="1649412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Expansion of the models to more than 2 parts.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Calculation of other performance measures such as kit earliness or tardiness.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Integration of kitting in a production process.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Cost calculation of the process.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3" name="Tekstvak 73"/>
          <p:cNvSpPr/>
          <p:nvPr/>
        </p:nvSpPr>
        <p:spPr>
          <a:xfrm>
            <a:off x="17010000" y="11680920"/>
            <a:ext cx="1173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Three Markovian queues models for kitting proce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With two par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4" name="Groep 64"/>
          <p:cNvGrpSpPr/>
          <p:nvPr/>
        </p:nvGrpSpPr>
        <p:grpSpPr>
          <a:xfrm>
            <a:off x="231840" y="33353280"/>
            <a:ext cx="13033440" cy="6481800"/>
            <a:chOff x="231840" y="33353280"/>
            <a:chExt cx="13033440" cy="6481800"/>
          </a:xfrm>
        </p:grpSpPr>
        <p:sp>
          <p:nvSpPr>
            <p:cNvPr id="105" name="Afgeronde rechthoek 75"/>
            <p:cNvSpPr/>
            <p:nvPr/>
          </p:nvSpPr>
          <p:spPr>
            <a:xfrm>
              <a:off x="231840" y="33748560"/>
              <a:ext cx="13033440" cy="6086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Rechthoek 76"/>
            <p:cNvSpPr/>
            <p:nvPr/>
          </p:nvSpPr>
          <p:spPr>
            <a:xfrm>
              <a:off x="5130720" y="33354720"/>
              <a:ext cx="3932280" cy="790560"/>
            </a:xfrm>
            <a:prstGeom prst="rect">
              <a:avLst/>
            </a:prstGeom>
            <a:gradFill rotWithShape="0">
              <a:gsLst>
                <a:gs pos="0">
                  <a:srgbClr val="77ae96"/>
                </a:gs>
                <a:gs pos="100000">
                  <a:srgbClr val="9ce5c6"/>
                </a:gs>
              </a:gsLst>
              <a:lin ang="16200000"/>
            </a:gradFill>
            <a:ln w="9360">
              <a:solidFill>
                <a:srgbClr val="a5dec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Tekstvak 77"/>
            <p:cNvSpPr/>
            <p:nvPr/>
          </p:nvSpPr>
          <p:spPr>
            <a:xfrm>
              <a:off x="5700600" y="33353280"/>
              <a:ext cx="363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Methodology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Tekstvak 78"/>
            <p:cNvSpPr/>
            <p:nvPr/>
          </p:nvSpPr>
          <p:spPr>
            <a:xfrm>
              <a:off x="501840" y="34381080"/>
              <a:ext cx="12035160" cy="45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3600" spc="-1" strike="noStrike">
                  <a:solidFill>
                    <a:srgbClr val="000000"/>
                  </a:solidFill>
                  <a:latin typeface="Verdana"/>
                </a:rPr>
                <a:t>Sparse</a:t>
              </a:r>
              <a:r>
                <a:rPr b="0" lang="fr-BE" sz="3600" spc="-1" strike="noStrike">
                  <a:solidFill>
                    <a:srgbClr val="000000"/>
                  </a:solidFill>
                  <a:latin typeface="Verdana"/>
                </a:rPr>
                <a:t> matrix technique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Solution for the « state space explosion problem » due to multidimensionality of the state space (2 buffers).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45720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Sparse generator matrix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45720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Use of the GMRES Method (General Minimal Residual Method) to solve the balance equations.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9" name="Afgeronde rechthoek 89"/>
          <p:cNvSpPr/>
          <p:nvPr/>
        </p:nvSpPr>
        <p:spPr>
          <a:xfrm>
            <a:off x="13554000" y="33370920"/>
            <a:ext cx="16418160" cy="4592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164a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hthoek 90"/>
          <p:cNvSpPr/>
          <p:nvPr/>
        </p:nvSpPr>
        <p:spPr>
          <a:xfrm>
            <a:off x="18835560" y="32994720"/>
            <a:ext cx="5249880" cy="834840"/>
          </a:xfrm>
          <a:prstGeom prst="rect">
            <a:avLst/>
          </a:prstGeom>
          <a:gradFill rotWithShape="0">
            <a:gsLst>
              <a:gs pos="0">
                <a:srgbClr val="77ae96"/>
              </a:gs>
              <a:gs pos="100000">
                <a:srgbClr val="9ce5c6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kstvak 512"/>
          <p:cNvSpPr/>
          <p:nvPr/>
        </p:nvSpPr>
        <p:spPr>
          <a:xfrm>
            <a:off x="17961120" y="33064560"/>
            <a:ext cx="731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kstvak 94"/>
          <p:cNvSpPr/>
          <p:nvPr/>
        </p:nvSpPr>
        <p:spPr>
          <a:xfrm>
            <a:off x="13771440" y="33929640"/>
            <a:ext cx="15767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The larger the capacity, the smaller the probability that the buffer is full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Interruptions in the production of part 1 have a greater impact on th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buffer 2 than on its own buffer (buffer 1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Adding production interruptions for part 2 doesn’t have a significa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impact on the probability for buffer 2 but does for buffer 1</a:t>
            </a: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3" name="Groep 72"/>
          <p:cNvGrpSpPr/>
          <p:nvPr/>
        </p:nvGrpSpPr>
        <p:grpSpPr>
          <a:xfrm>
            <a:off x="17226000" y="23850720"/>
            <a:ext cx="12817440" cy="6408720"/>
            <a:chOff x="17226000" y="23850720"/>
            <a:chExt cx="12817440" cy="6408720"/>
          </a:xfrm>
        </p:grpSpPr>
        <p:sp>
          <p:nvSpPr>
            <p:cNvPr id="114" name="Afgeronde rechthoek 81"/>
            <p:cNvSpPr/>
            <p:nvPr/>
          </p:nvSpPr>
          <p:spPr>
            <a:xfrm>
              <a:off x="17226000" y="24491880"/>
              <a:ext cx="12817440" cy="576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Rechthoek 82"/>
            <p:cNvSpPr/>
            <p:nvPr/>
          </p:nvSpPr>
          <p:spPr>
            <a:xfrm>
              <a:off x="21108960" y="23850720"/>
              <a:ext cx="4254480" cy="936360"/>
            </a:xfrm>
            <a:prstGeom prst="rect">
              <a:avLst/>
            </a:prstGeom>
            <a:gradFill rotWithShape="0">
              <a:gsLst>
                <a:gs pos="0">
                  <a:srgbClr val="77ae96"/>
                </a:gs>
                <a:gs pos="100000">
                  <a:srgbClr val="9ce5c6"/>
                </a:gs>
              </a:gsLst>
              <a:lin ang="16200000"/>
            </a:gradFill>
            <a:ln w="9360">
              <a:solidFill>
                <a:srgbClr val="a5dec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Tekstvak 512"/>
            <p:cNvSpPr/>
            <p:nvPr/>
          </p:nvSpPr>
          <p:spPr>
            <a:xfrm>
              <a:off x="20229120" y="23995080"/>
              <a:ext cx="605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Parameters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Tekstvak 85"/>
            <p:cNvSpPr/>
            <p:nvPr/>
          </p:nvSpPr>
          <p:spPr>
            <a:xfrm>
              <a:off x="17592120" y="25218720"/>
              <a:ext cx="12166920" cy="49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All Models          80 % load.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Production interruptions          on average 10 kits can be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produced during a production period of 10.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The production is interrupted 40 % of the time.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118" name="Rechte verbindingslijn met pijl 69"/>
            <p:cNvCxnSpPr/>
            <p:nvPr/>
          </p:nvCxnSpPr>
          <p:spPr>
            <a:xfrm>
              <a:off x="20034360" y="25650720"/>
              <a:ext cx="8647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9" name="Rechte verbindingslijn met pijl 71"/>
            <p:cNvCxnSpPr/>
            <p:nvPr/>
          </p:nvCxnSpPr>
          <p:spPr>
            <a:xfrm>
              <a:off x="22914720" y="27091080"/>
              <a:ext cx="8647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09:38:16Z</dcterms:created>
  <dc:creator>TELIN</dc:creator>
  <dc:description/>
  <dc:language>en-US</dc:language>
  <cp:lastModifiedBy>emdcuype</cp:lastModifiedBy>
  <cp:lastPrinted>2000-03-21T09:19:16Z</cp:lastPrinted>
  <dcterms:modified xsi:type="dcterms:W3CDTF">2010-09-27T14:58:49Z</dcterms:modified>
  <cp:revision>272</cp:revision>
  <dc:subject/>
  <dc:title>No Slide Title</dc:title>
</cp:coreProperties>
</file>