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5213" cy="42803763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9818800" cy="42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29222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6890840" y="-360"/>
            <a:ext cx="129225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40217760"/>
            <a:ext cx="129222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1C9-B45B-4C51-894B-3982A9C535D8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94840" y="3174840"/>
            <a:ext cx="11229840" cy="15878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981160" y="20112120"/>
            <a:ext cx="23857200" cy="190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16890840" y="40217760"/>
            <a:ext cx="129225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6F0-9520-4E06-AA55-28B9C41ACF38}" type="slidenum">
              <a:rPr b="0" lang="nl-B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567-5728-45E4-A788-DBE041C7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A5F-9740-4785-AA50-D40D00AD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303-39A8-4069-A895-01D6490E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9746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675800" y="1236816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734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09746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9675800" y="25781040"/>
            <a:ext cx="828648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11D-AFFD-4A94-AB6E-5CC04C59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24"/>
              </a:spcBef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D27-C23E-4EB3-B54B-D8D53E3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697-CC10-4C53-8AA3-313C3F2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B7-7DEA-44AD-80D4-771D91C8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2E6-BE6B-49B8-BEA8-9309CBC2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7340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24"/>
              </a:spcBef>
              <a:tabLst>
                <a:tab algn="l" pos="0"/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526-D80E-4A1E-B3D7-D8F9E53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EFE-1460-493A-93C3-394F0E9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60200" y="2578104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F79-16B0-4680-A515-03A8795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34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60200" y="12368160"/>
            <a:ext cx="1255860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73400" y="25781040"/>
            <a:ext cx="25734960" cy="1224900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indent="0">
              <a:spcBef>
                <a:spcPts val="3424"/>
              </a:spcBef>
              <a:buNone/>
              <a:tabLst>
                <a:tab algn="l" pos="3884760"/>
                <a:tab algn="l" pos="7769160"/>
              </a:tabLst>
            </a:pP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608-E4AC-44DB-9CC6-62C4A32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c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340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ctr">
            <a:noAutofit/>
          </a:bodyPr>
          <a:p>
            <a:pPr indent="0" algn="ctr">
              <a:buNone/>
              <a:tabLst>
                <a:tab algn="l" pos="0"/>
                <a:tab algn="l" pos="3884760"/>
                <a:tab algn="l" pos="7769160"/>
              </a:tabLst>
            </a:pPr>
            <a:r>
              <a:rPr b="0" lang="en-US" sz="18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3400" y="12368160"/>
            <a:ext cx="25734960" cy="2567952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rmAutofit/>
          </a:bodyPr>
          <a:p>
            <a:pPr marL="1455840" indent="-145584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4320" indent="-121284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2" marL="4851360" indent="-966600">
              <a:spcBef>
                <a:spcPts val="3424"/>
              </a:spcBef>
              <a:buClr>
                <a:srgbClr val="000000"/>
              </a:buClr>
              <a:buFont typeface="Times New Roman"/>
              <a:buChar char="•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3" marL="6794640" indent="-968400">
              <a:spcBef>
                <a:spcPts val="3424"/>
              </a:spcBef>
              <a:buClr>
                <a:srgbClr val="000000"/>
              </a:buClr>
              <a:buFont typeface="Times New Roman"/>
              <a:buChar char="–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4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5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  <a:p>
            <a:pPr lvl="6" marL="8736120" indent="-973080">
              <a:spcBef>
                <a:spcPts val="3424"/>
              </a:spcBef>
              <a:buClr>
                <a:srgbClr val="000000"/>
              </a:buClr>
              <a:buFont typeface="Times New Roman"/>
              <a:buChar char="»"/>
              <a:tabLst>
                <a:tab algn="l" pos="3884760"/>
                <a:tab algn="l" pos="776916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340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7480" y="38998080"/>
            <a:ext cx="958032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4680" y="38998080"/>
            <a:ext cx="6313680" cy="2854440"/>
          </a:xfrm>
          <a:prstGeom prst="rect">
            <a:avLst/>
          </a:prstGeom>
          <a:noFill/>
          <a:ln w="0">
            <a:noFill/>
          </a:ln>
        </p:spPr>
        <p:txBody>
          <a:bodyPr lIns="388080" rIns="388080" tIns="194040" bIns="194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AC68-C8E2-4880-8348-FAA1389C8A9A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aserCircles_bgr2"/>
          <p:cNvPicPr/>
          <p:nvPr/>
        </p:nvPicPr>
        <p:blipFill>
          <a:blip r:embed="rId2"/>
          <a:srcRect l="0" t="429" r="0" b="0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0" y="1089000"/>
            <a:ext cx="6784920" cy="2448000"/>
            <a:chOff x="0" y="1089000"/>
            <a:chExt cx="6784920" cy="2448000"/>
          </a:xfrm>
        </p:grpSpPr>
        <p:pic>
          <p:nvPicPr>
            <p:cNvPr id="7" name="Picture 10" descr="UGent_blauwegraffitihelft"/>
            <p:cNvPicPr/>
            <p:nvPr/>
          </p:nvPicPr>
          <p:blipFill>
            <a:blip r:embed="rId3"/>
            <a:stretch/>
          </p:blipFill>
          <p:spPr>
            <a:xfrm>
              <a:off x="0" y="1092240"/>
              <a:ext cx="3325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" descr="UGent_blauwlogo"/>
            <p:cNvPicPr/>
            <p:nvPr/>
          </p:nvPicPr>
          <p:blipFill>
            <a:blip r:embed="rId4"/>
            <a:stretch/>
          </p:blipFill>
          <p:spPr>
            <a:xfrm>
              <a:off x="3330720" y="1089000"/>
              <a:ext cx="3454200" cy="244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3" descr="firw_nl"/>
          <p:cNvPicPr/>
          <p:nvPr/>
        </p:nvPicPr>
        <p:blipFill>
          <a:blip r:embed="rId5"/>
          <a:stretch/>
        </p:blipFill>
        <p:spPr>
          <a:xfrm>
            <a:off x="3400560" y="4192560"/>
            <a:ext cx="3313080" cy="309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7143840" y="1095480"/>
            <a:ext cx="21763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8000" spc="-1" strike="noStrike">
                <a:solidFill>
                  <a:srgbClr val="164a7c"/>
                </a:solidFill>
                <a:latin typeface="Verdana"/>
              </a:rPr>
              <a:t>Analysis and performance evaluation of</a:t>
            </a:r>
            <a:r>
              <a:rPr b="0" lang="en-US" sz="9600" spc="-1" strike="noStrike">
                <a:solidFill>
                  <a:srgbClr val="164a7c"/>
                </a:solidFill>
                <a:latin typeface="Verdana"/>
              </a:rPr>
              <a:t> </a:t>
            </a:r>
            <a:br>
              <a:rPr sz="9600"/>
            </a:br>
            <a:r>
              <a:rPr b="0" lang="en-US" sz="12000" spc="-1" strike="noStrike">
                <a:solidFill>
                  <a:srgbClr val="164a7c"/>
                </a:solidFill>
                <a:latin typeface="Verdana"/>
              </a:rPr>
              <a:t>Kitting Processes</a:t>
            </a:r>
            <a:endParaRPr b="0" lang="en-US" sz="1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393640" y="4551480"/>
            <a:ext cx="175132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Eline De Cuypere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04"/>
          <p:cNvSpPr/>
          <p:nvPr/>
        </p:nvSpPr>
        <p:spPr>
          <a:xfrm>
            <a:off x="10169640" y="8080200"/>
            <a:ext cx="1663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ACS research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of Telecommunication and Information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.-Pietersnieuwstraat 41, 9000 Gent; Eline.DeCuypere@UGent.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14025600" y="209343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03"/>
          <p:cNvSpPr/>
          <p:nvPr/>
        </p:nvSpPr>
        <p:spPr>
          <a:xfrm>
            <a:off x="14608080" y="1976292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3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58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62"/>
          <p:cNvSpPr/>
          <p:nvPr/>
        </p:nvSpPr>
        <p:spPr>
          <a:xfrm>
            <a:off x="0" y="0"/>
            <a:ext cx="21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63"/>
          <p:cNvSpPr/>
          <p:nvPr/>
        </p:nvSpPr>
        <p:spPr>
          <a:xfrm>
            <a:off x="0" y="48276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4"/>
          <p:cNvSpPr/>
          <p:nvPr/>
        </p:nvSpPr>
        <p:spPr>
          <a:xfrm>
            <a:off x="1800" y="745920"/>
            <a:ext cx="266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54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469" descr="SMACSlogo_vierkant"/>
          <p:cNvPicPr/>
          <p:nvPr/>
        </p:nvPicPr>
        <p:blipFill>
          <a:blip r:embed="rId1"/>
          <a:stretch/>
        </p:blipFill>
        <p:spPr>
          <a:xfrm>
            <a:off x="27182880" y="8155080"/>
            <a:ext cx="1511280" cy="138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43"/>
          <p:cNvSpPr/>
          <p:nvPr/>
        </p:nvSpPr>
        <p:spPr>
          <a:xfrm>
            <a:off x="8872560" y="6640560"/>
            <a:ext cx="200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oint work with Dieter Fiems and Herwig Brune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fgeronde rechthoek 438"/>
          <p:cNvSpPr/>
          <p:nvPr/>
        </p:nvSpPr>
        <p:spPr>
          <a:xfrm>
            <a:off x="303120" y="10528200"/>
            <a:ext cx="29827800" cy="1281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64a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hthoek 441"/>
          <p:cNvSpPr/>
          <p:nvPr/>
        </p:nvSpPr>
        <p:spPr>
          <a:xfrm>
            <a:off x="4695840" y="9952200"/>
            <a:ext cx="5329080" cy="108108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kstvak 442"/>
          <p:cNvSpPr/>
          <p:nvPr/>
        </p:nvSpPr>
        <p:spPr>
          <a:xfrm>
            <a:off x="4840200" y="1016784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42" descr=""/>
          <p:cNvPicPr/>
          <p:nvPr/>
        </p:nvPicPr>
        <p:blipFill>
          <a:blip r:embed="rId2"/>
          <a:stretch/>
        </p:blipFill>
        <p:spPr>
          <a:xfrm>
            <a:off x="10312560" y="15352560"/>
            <a:ext cx="8431200" cy="4681800"/>
          </a:xfrm>
          <a:prstGeom prst="rect">
            <a:avLst/>
          </a:prstGeom>
          <a:ln w="0">
            <a:noFill/>
          </a:ln>
        </p:spPr>
      </p:pic>
      <p:sp>
        <p:nvSpPr>
          <p:cNvPr id="70" name="Tekstvak 480"/>
          <p:cNvSpPr/>
          <p:nvPr/>
        </p:nvSpPr>
        <p:spPr>
          <a:xfrm>
            <a:off x="15354360" y="19593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ep 484"/>
          <p:cNvGrpSpPr/>
          <p:nvPr/>
        </p:nvGrpSpPr>
        <p:grpSpPr>
          <a:xfrm>
            <a:off x="1095480" y="16289280"/>
            <a:ext cx="7634160" cy="3313080"/>
            <a:chOff x="1095480" y="16289280"/>
            <a:chExt cx="7634160" cy="3313080"/>
          </a:xfrm>
        </p:grpSpPr>
        <p:pic>
          <p:nvPicPr>
            <p:cNvPr id="72" name="Picture 433" descr=""/>
            <p:cNvPicPr/>
            <p:nvPr/>
          </p:nvPicPr>
          <p:blipFill>
            <a:blip r:embed="rId3"/>
            <a:stretch/>
          </p:blipFill>
          <p:spPr>
            <a:xfrm>
              <a:off x="1095480" y="16289280"/>
              <a:ext cx="763416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443" descr=""/>
            <p:cNvPicPr/>
            <p:nvPr/>
          </p:nvPicPr>
          <p:blipFill>
            <a:blip r:embed="rId4"/>
            <a:stretch/>
          </p:blipFill>
          <p:spPr>
            <a:xfrm>
              <a:off x="2891520" y="16335720"/>
              <a:ext cx="831240" cy="3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ep 489"/>
          <p:cNvGrpSpPr/>
          <p:nvPr/>
        </p:nvGrpSpPr>
        <p:grpSpPr>
          <a:xfrm>
            <a:off x="14920560" y="11609280"/>
            <a:ext cx="15067080" cy="2951280"/>
            <a:chOff x="14920560" y="11609280"/>
            <a:chExt cx="15067080" cy="2951280"/>
          </a:xfrm>
        </p:grpSpPr>
        <p:sp>
          <p:nvSpPr>
            <p:cNvPr id="75" name="Rond hoek zelfde zijde rechthoek 490"/>
            <p:cNvSpPr/>
            <p:nvPr/>
          </p:nvSpPr>
          <p:spPr>
            <a:xfrm rot="5400000">
              <a:off x="20978280" y="5551200"/>
              <a:ext cx="2951280" cy="15067080"/>
            </a:xfrm>
            <a:custGeom>
              <a:avLst/>
              <a:gdLst>
                <a:gd name="textAreaLeft" fmla="*/ 144000 w 2951280"/>
                <a:gd name="textAreaRight" fmla="*/ 2807280 w 2951280"/>
                <a:gd name="textAreaTop" fmla="*/ 129600 h 15067080"/>
                <a:gd name="textAreaBottom" fmla="*/ 15067440 h 1506708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ond hoek zelfde zijde rechthoek 4"/>
            <p:cNvSpPr/>
            <p:nvPr/>
          </p:nvSpPr>
          <p:spPr>
            <a:xfrm>
              <a:off x="14920920" y="11753280"/>
              <a:ext cx="14936400" cy="26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7" name="Picture 444" descr=""/>
          <p:cNvPicPr/>
          <p:nvPr/>
        </p:nvPicPr>
        <p:blipFill>
          <a:blip r:embed="rId5"/>
          <a:stretch/>
        </p:blipFill>
        <p:spPr>
          <a:xfrm>
            <a:off x="20755080" y="14776560"/>
            <a:ext cx="8523360" cy="6330960"/>
          </a:xfrm>
          <a:prstGeom prst="rect">
            <a:avLst/>
          </a:prstGeom>
          <a:ln w="0">
            <a:noFill/>
          </a:ln>
        </p:spPr>
      </p:pic>
      <p:sp>
        <p:nvSpPr>
          <p:cNvPr id="78" name="Tekstvak 500"/>
          <p:cNvSpPr/>
          <p:nvPr/>
        </p:nvSpPr>
        <p:spPr>
          <a:xfrm>
            <a:off x="21186720" y="21400920"/>
            <a:ext cx="5832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hthoek 80"/>
          <p:cNvSpPr/>
          <p:nvPr/>
        </p:nvSpPr>
        <p:spPr>
          <a:xfrm>
            <a:off x="20970720" y="10024920"/>
            <a:ext cx="4319640" cy="1008360"/>
          </a:xfrm>
          <a:prstGeom prst="rect">
            <a:avLst/>
          </a:prstGeom>
          <a:gradFill rotWithShape="0">
            <a:gsLst>
              <a:gs pos="0">
                <a:srgbClr val="77ae96"/>
              </a:gs>
              <a:gs pos="100000">
                <a:srgbClr val="9ce5c6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kstvak 81"/>
          <p:cNvSpPr/>
          <p:nvPr/>
        </p:nvSpPr>
        <p:spPr>
          <a:xfrm>
            <a:off x="20682000" y="10024920"/>
            <a:ext cx="5327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300" spc="-1" strike="noStrike">
                <a:solidFill>
                  <a:srgbClr val="000000"/>
                </a:solidFill>
                <a:latin typeface="Verdana"/>
              </a:rPr>
              <a:t>Kitting Model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kstvak 500"/>
          <p:cNvSpPr/>
          <p:nvPr/>
        </p:nvSpPr>
        <p:spPr>
          <a:xfrm>
            <a:off x="1455840" y="21258360"/>
            <a:ext cx="540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wo equal and indepent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0" y="109548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66"/>
          <p:cNvSpPr/>
          <p:nvPr/>
        </p:nvSpPr>
        <p:spPr>
          <a:xfrm>
            <a:off x="0" y="0"/>
            <a:ext cx="30275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ep 505"/>
          <p:cNvGrpSpPr/>
          <p:nvPr/>
        </p:nvGrpSpPr>
        <p:grpSpPr>
          <a:xfrm>
            <a:off x="1095480" y="24498360"/>
            <a:ext cx="23113800" cy="10009080"/>
            <a:chOff x="1095480" y="24498360"/>
            <a:chExt cx="23113800" cy="10009080"/>
          </a:xfrm>
        </p:grpSpPr>
        <p:sp>
          <p:nvSpPr>
            <p:cNvPr id="85" name="Afgeronde rechthoek 506"/>
            <p:cNvSpPr/>
            <p:nvPr/>
          </p:nvSpPr>
          <p:spPr>
            <a:xfrm>
              <a:off x="1095480" y="24993720"/>
              <a:ext cx="23113800" cy="951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hthoek 507"/>
            <p:cNvSpPr/>
            <p:nvPr/>
          </p:nvSpPr>
          <p:spPr>
            <a:xfrm>
              <a:off x="9952200" y="24498360"/>
              <a:ext cx="5832360" cy="10800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Tekstvak 508"/>
            <p:cNvSpPr/>
            <p:nvPr/>
          </p:nvSpPr>
          <p:spPr>
            <a:xfrm>
              <a:off x="8728200" y="24661800"/>
              <a:ext cx="823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Numerical Example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8" name="Picture 4" descr=""/>
          <p:cNvPicPr/>
          <p:nvPr/>
        </p:nvPicPr>
        <p:blipFill>
          <a:blip r:embed="rId6"/>
          <a:srcRect l="17725" t="8957" r="14179" b="7464"/>
          <a:stretch/>
        </p:blipFill>
        <p:spPr>
          <a:xfrm>
            <a:off x="2103480" y="26443080"/>
            <a:ext cx="9761400" cy="748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7"/>
          <a:srcRect l="16981" t="9250" r="12933" b="7512"/>
          <a:stretch/>
        </p:blipFill>
        <p:spPr>
          <a:xfrm>
            <a:off x="12617280" y="26658720"/>
            <a:ext cx="9433080" cy="7002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ep 70"/>
          <p:cNvGrpSpPr/>
          <p:nvPr/>
        </p:nvGrpSpPr>
        <p:grpSpPr>
          <a:xfrm>
            <a:off x="635040" y="33859800"/>
            <a:ext cx="16273440" cy="5400720"/>
            <a:chOff x="635040" y="33859800"/>
            <a:chExt cx="16273440" cy="5400720"/>
          </a:xfrm>
        </p:grpSpPr>
        <p:sp>
          <p:nvSpPr>
            <p:cNvPr id="91" name="Afgeronde rechthoek 71"/>
            <p:cNvSpPr/>
            <p:nvPr/>
          </p:nvSpPr>
          <p:spPr>
            <a:xfrm>
              <a:off x="635040" y="34439400"/>
              <a:ext cx="16273440" cy="482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hthoek 72"/>
            <p:cNvSpPr/>
            <p:nvPr/>
          </p:nvSpPr>
          <p:spPr>
            <a:xfrm>
              <a:off x="7432200" y="33859800"/>
              <a:ext cx="2232000" cy="100800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kstvak 512"/>
            <p:cNvSpPr/>
            <p:nvPr/>
          </p:nvSpPr>
          <p:spPr>
            <a:xfrm>
              <a:off x="5199840" y="34003800"/>
              <a:ext cx="664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Results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ep 69"/>
          <p:cNvGrpSpPr/>
          <p:nvPr/>
        </p:nvGrpSpPr>
        <p:grpSpPr>
          <a:xfrm>
            <a:off x="18521280" y="23490360"/>
            <a:ext cx="9921960" cy="8280360"/>
            <a:chOff x="18521280" y="23490360"/>
            <a:chExt cx="9921960" cy="8280360"/>
          </a:xfrm>
        </p:grpSpPr>
        <p:grpSp>
          <p:nvGrpSpPr>
            <p:cNvPr id="95" name="Groep 66"/>
            <p:cNvGrpSpPr/>
            <p:nvPr/>
          </p:nvGrpSpPr>
          <p:grpSpPr>
            <a:xfrm>
              <a:off x="18521280" y="23490360"/>
              <a:ext cx="9921960" cy="8280360"/>
              <a:chOff x="18521280" y="23490360"/>
              <a:chExt cx="9921960" cy="8280360"/>
            </a:xfrm>
          </p:grpSpPr>
          <p:sp>
            <p:nvSpPr>
              <p:cNvPr id="96" name="Afgeronde rechthoek 67"/>
              <p:cNvSpPr/>
              <p:nvPr/>
            </p:nvSpPr>
            <p:spPr>
              <a:xfrm>
                <a:off x="18521280" y="23853600"/>
                <a:ext cx="9921960" cy="791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164a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Rechthoek 68"/>
              <p:cNvSpPr/>
              <p:nvPr/>
            </p:nvSpPr>
            <p:spPr>
              <a:xfrm>
                <a:off x="21217680" y="23490360"/>
                <a:ext cx="4720680" cy="936000"/>
              </a:xfrm>
              <a:prstGeom prst="rect">
                <a:avLst/>
              </a:prstGeom>
              <a:gradFill rotWithShape="0">
                <a:gsLst>
                  <a:gs pos="0">
                    <a:srgbClr val="77ae96"/>
                  </a:gs>
                  <a:gs pos="100000">
                    <a:srgbClr val="9ce5c6"/>
                  </a:gs>
                </a:gsLst>
                <a:lin ang="16200000"/>
              </a:gradFill>
              <a:ln w="9360">
                <a:solidFill>
                  <a:srgbClr val="a5dec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Tekstvak 512"/>
              <p:cNvSpPr/>
              <p:nvPr/>
            </p:nvSpPr>
            <p:spPr>
              <a:xfrm>
                <a:off x="21473640" y="23562360"/>
                <a:ext cx="404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3200" spc="-1" strike="noStrike">
                    <a:solidFill>
                      <a:srgbClr val="000000"/>
                    </a:solidFill>
                    <a:latin typeface="Verdana"/>
                  </a:rPr>
                  <a:t>Parameters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" name="Tekstvak 74"/>
            <p:cNvSpPr/>
            <p:nvPr/>
          </p:nvSpPr>
          <p:spPr>
            <a:xfrm>
              <a:off x="19225440" y="24642360"/>
              <a:ext cx="7346160" cy="71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92d050"/>
                  </a:solidFill>
                  <a:latin typeface="Verdana"/>
                </a:rPr>
                <a:t>Base Model    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0.8 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= 0.8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000000"/>
                  </a:solidFill>
                  <a:latin typeface="Verdana"/>
                </a:rPr>
                <a:t>Model 1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fr-BE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fr-BE" sz="3000" spc="-1" strike="noStrike" baseline="30000">
                  <a:solidFill>
                    <a:srgbClr val="000000"/>
                  </a:solidFill>
                  <a:latin typeface="Verdana"/>
                </a:rPr>
                <a:t>* 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= 2  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α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0.25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= 0.8              </a:t>
              </a: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β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0.1667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300" spc="-1" strike="noStrike">
                  <a:solidFill>
                    <a:srgbClr val="0070c0"/>
                  </a:solidFill>
                  <a:latin typeface="Verdana"/>
                </a:rPr>
                <a:t>Model 2</a:t>
              </a:r>
              <a:endParaRPr b="0" lang="en-US" sz="3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1" lang="fr-BE" sz="3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fr-BE" sz="30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[0 2 0 2]   </a:t>
              </a:r>
              <a:r>
                <a:rPr b="1" lang="en-US" sz="3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000" spc="-1" strike="noStrike">
                  <a:solidFill>
                    <a:srgbClr val="000000"/>
                  </a:solidFill>
                  <a:latin typeface="Verdana"/>
                </a:rPr>
                <a:t>λ</a:t>
              </a:r>
              <a:r>
                <a:rPr b="1" lang="fr-BE" sz="3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fr-BE" sz="30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3000" spc="-1" strike="noStrike">
                  <a:solidFill>
                    <a:srgbClr val="000000"/>
                  </a:solidFill>
                  <a:latin typeface="Verdana"/>
                </a:rPr>
                <a:t> = [0 0 2 2]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000" spc="-1" strike="noStrike">
                  <a:solidFill>
                    <a:srgbClr val="000000"/>
                  </a:solidFill>
                  <a:latin typeface="Verdana"/>
                </a:rPr>
                <a:t>μ</a:t>
              </a:r>
              <a:r>
                <a:rPr b="0" lang="fr-BE" sz="3000" spc="-1" strike="noStrike">
                  <a:solidFill>
                    <a:srgbClr val="000000"/>
                  </a:solidFill>
                  <a:latin typeface="Verdana"/>
                </a:rPr>
                <a:t> = [1 1 1 1]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0" name="Picture 65" descr=""/>
            <p:cNvPicPr/>
            <p:nvPr/>
          </p:nvPicPr>
          <p:blipFill>
            <a:blip r:embed="rId8"/>
            <a:stretch/>
          </p:blipFill>
          <p:spPr>
            <a:xfrm>
              <a:off x="23402160" y="29322720"/>
              <a:ext cx="4608720" cy="18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kstvak 475"/>
          <p:cNvSpPr/>
          <p:nvPr/>
        </p:nvSpPr>
        <p:spPr>
          <a:xfrm>
            <a:off x="4624560" y="19529280"/>
            <a:ext cx="4535280" cy="581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2d050"/>
                </a:solidFill>
                <a:latin typeface="Verdana"/>
              </a:rPr>
              <a:t>Bas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kstvak 499"/>
          <p:cNvSpPr/>
          <p:nvPr/>
        </p:nvSpPr>
        <p:spPr>
          <a:xfrm>
            <a:off x="24738120" y="1945800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kstvak 500"/>
          <p:cNvSpPr/>
          <p:nvPr/>
        </p:nvSpPr>
        <p:spPr>
          <a:xfrm>
            <a:off x="9377280" y="21510720"/>
            <a:ext cx="9720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of part 1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Interrupted Poisson Proces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rrivals  of part 2: 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Poiss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kstvak 83"/>
          <p:cNvSpPr/>
          <p:nvPr/>
        </p:nvSpPr>
        <p:spPr>
          <a:xfrm>
            <a:off x="14920920" y="11536200"/>
            <a:ext cx="1476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For part 1 in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Model 1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and part 1 &amp; 2 in </a:t>
            </a:r>
            <a:r>
              <a:rPr b="1" lang="fr-BE" sz="3200" spc="-1" strike="noStrike">
                <a:solidFill>
                  <a:srgbClr val="00b0f0"/>
                </a:solidFill>
                <a:latin typeface="Verdana"/>
              </a:rPr>
              <a:t>Model 2</a:t>
            </a:r>
            <a:r>
              <a:rPr b="0" lang="fr-BE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we assume a 40%  effective production time. The time length is equal to 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o ensure a same total 80% production time for all models, the « interrupted » parts arrive at an intensity equal to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ep 489"/>
          <p:cNvGrpSpPr/>
          <p:nvPr/>
        </p:nvGrpSpPr>
        <p:grpSpPr>
          <a:xfrm>
            <a:off x="879480" y="11464920"/>
            <a:ext cx="13754160" cy="3745080"/>
            <a:chOff x="879480" y="11464920"/>
            <a:chExt cx="13754160" cy="3745080"/>
          </a:xfrm>
        </p:grpSpPr>
        <p:sp>
          <p:nvSpPr>
            <p:cNvPr id="106" name="Rond hoek zelfde zijde rechthoek 87"/>
            <p:cNvSpPr/>
            <p:nvPr/>
          </p:nvSpPr>
          <p:spPr>
            <a:xfrm rot="5400000">
              <a:off x="5883840" y="6460200"/>
              <a:ext cx="3745080" cy="13754160"/>
            </a:xfrm>
            <a:custGeom>
              <a:avLst/>
              <a:gdLst>
                <a:gd name="textAreaLeft" fmla="*/ 182520 w 3745080"/>
                <a:gd name="textAreaRight" fmla="*/ 3562560 w 3745080"/>
                <a:gd name="textAreaTop" fmla="*/ 118440 h 13754160"/>
                <a:gd name="textAreaBottom" fmla="*/ 13754520 h 13754160"/>
              </a:gdLst>
              <a:ahLst/>
              <a:rect l="textAreaLeft" t="textAreaTop" r="textAreaRight" b="textAreaBottom"/>
              <a:pathLst>
                <a:path w="2270952" h="12853878">
                  <a:moveTo>
                    <a:pt x="378500" y="0"/>
                  </a:moveTo>
                  <a:lnTo>
                    <a:pt x="1892452" y="0"/>
                  </a:lnTo>
                  <a:lnTo>
                    <a:pt x="1892452" y="0"/>
                  </a:lnTo>
                  <a:arcTo wR="378500" hR="378500" stAng="-5400000" swAng="5400009"/>
                  <a:lnTo>
                    <a:pt x="2270952" y="12853878"/>
                  </a:lnTo>
                  <a:lnTo>
                    <a:pt x="0" y="12853878"/>
                  </a:lnTo>
                  <a:lnTo>
                    <a:pt x="0" y="378500"/>
                  </a:lnTo>
                  <a:lnTo>
                    <a:pt x="0" y="378500"/>
                  </a:lnTo>
                  <a:arcTo wR="378500" hR="378500" stAng="10800000" swAng="5400009"/>
                  <a:close/>
                </a:path>
              </a:pathLst>
            </a:custGeom>
            <a:solidFill>
              <a:srgbClr val="cbecde">
                <a:alpha val="90000"/>
              </a:srgbClr>
            </a:solidFill>
            <a:ln w="25560">
              <a:solidFill>
                <a:srgbClr val="cbecde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ond hoek zelfde zijde rechthoek 4"/>
            <p:cNvSpPr/>
            <p:nvPr/>
          </p:nvSpPr>
          <p:spPr>
            <a:xfrm>
              <a:off x="879480" y="11647800"/>
              <a:ext cx="13635000" cy="33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0120" rIns="240120" tIns="119880" bIns="11988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1176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800440"/>
                  <a:tab algn="l" pos="5600880"/>
                  <a:tab algn="l" pos="8400960"/>
                </a:tabLst>
              </a:pPr>
              <a:endParaRPr b="0" lang="en-US" sz="6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Tekstvak 89"/>
          <p:cNvSpPr/>
          <p:nvPr/>
        </p:nvSpPr>
        <p:spPr>
          <a:xfrm>
            <a:off x="879480" y="11752200"/>
            <a:ext cx="144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trategy for supplying materials to an assembly lin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parts necessary for assembly are collected into a container    referred to as « kit », prior arriving at an assembly un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Kitting Process defined as a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Continuous Time Markov Ch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ep 70"/>
          <p:cNvGrpSpPr/>
          <p:nvPr/>
        </p:nvGrpSpPr>
        <p:grpSpPr>
          <a:xfrm>
            <a:off x="16362360" y="33715440"/>
            <a:ext cx="13392000" cy="3600360"/>
            <a:chOff x="16362360" y="33715440"/>
            <a:chExt cx="13392000" cy="3600360"/>
          </a:xfrm>
        </p:grpSpPr>
        <p:sp>
          <p:nvSpPr>
            <p:cNvPr id="110" name="Afgeronde rechthoek 91"/>
            <p:cNvSpPr/>
            <p:nvPr/>
          </p:nvSpPr>
          <p:spPr>
            <a:xfrm>
              <a:off x="16362360" y="33978960"/>
              <a:ext cx="13392000" cy="333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hthoek 92"/>
            <p:cNvSpPr/>
            <p:nvPr/>
          </p:nvSpPr>
          <p:spPr>
            <a:xfrm>
              <a:off x="19962360" y="33715440"/>
              <a:ext cx="4320000" cy="72036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kstvak 512"/>
            <p:cNvSpPr/>
            <p:nvPr/>
          </p:nvSpPr>
          <p:spPr>
            <a:xfrm>
              <a:off x="19170360" y="33778440"/>
              <a:ext cx="60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kstvak 95"/>
          <p:cNvSpPr/>
          <p:nvPr/>
        </p:nvSpPr>
        <p:spPr>
          <a:xfrm>
            <a:off x="16433640" y="34651800"/>
            <a:ext cx="134654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Sparse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matrix techni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solution for the « steady state explosion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terative solution: the Generalized Minimal Residual Meth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kstvak 86"/>
          <p:cNvSpPr/>
          <p:nvPr/>
        </p:nvSpPr>
        <p:spPr>
          <a:xfrm>
            <a:off x="736560" y="34939440"/>
            <a:ext cx="1562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The larger the capacity, the smaller the probability that the buffer is ful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rruptions in the production of one part have a greater impact on the  buffer of the other part than on its ow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dding a production interrupted component to part 2 doesn’t have a significant impact on the probabil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kstvak 97"/>
          <p:cNvSpPr/>
          <p:nvPr/>
        </p:nvSpPr>
        <p:spPr>
          <a:xfrm>
            <a:off x="5345280" y="2550636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kstvak 98"/>
          <p:cNvSpPr/>
          <p:nvPr/>
        </p:nvSpPr>
        <p:spPr>
          <a:xfrm>
            <a:off x="15928920" y="2543508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00"/>
                </a:solidFill>
                <a:latin typeface="Verdana"/>
              </a:rPr>
              <a:t>Buff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Groep 70"/>
          <p:cNvGrpSpPr/>
          <p:nvPr/>
        </p:nvGrpSpPr>
        <p:grpSpPr>
          <a:xfrm>
            <a:off x="9737640" y="37531800"/>
            <a:ext cx="19729440" cy="4984560"/>
            <a:chOff x="9737640" y="37531800"/>
            <a:chExt cx="19729440" cy="4984560"/>
          </a:xfrm>
        </p:grpSpPr>
        <p:sp>
          <p:nvSpPr>
            <p:cNvPr id="118" name="Afgeronde rechthoek 100"/>
            <p:cNvSpPr/>
            <p:nvPr/>
          </p:nvSpPr>
          <p:spPr>
            <a:xfrm>
              <a:off x="9737640" y="37973880"/>
              <a:ext cx="19729440" cy="45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64a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hthoek 101"/>
            <p:cNvSpPr/>
            <p:nvPr/>
          </p:nvSpPr>
          <p:spPr>
            <a:xfrm>
              <a:off x="16314120" y="37531800"/>
              <a:ext cx="6364440" cy="980640"/>
            </a:xfrm>
            <a:prstGeom prst="rect">
              <a:avLst/>
            </a:prstGeom>
            <a:gradFill rotWithShape="0">
              <a:gsLst>
                <a:gs pos="0">
                  <a:srgbClr val="77ae96"/>
                </a:gs>
                <a:gs pos="100000">
                  <a:srgbClr val="9ce5c6"/>
                </a:gs>
              </a:gsLst>
              <a:lin ang="16200000"/>
            </a:gradFill>
            <a:ln w="9360">
              <a:solidFill>
                <a:srgbClr val="a5dec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kstvak 512"/>
            <p:cNvSpPr/>
            <p:nvPr/>
          </p:nvSpPr>
          <p:spPr>
            <a:xfrm>
              <a:off x="15253200" y="37614600"/>
              <a:ext cx="887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3200" spc="-1" strike="noStrike">
                  <a:solidFill>
                    <a:srgbClr val="000000"/>
                  </a:solidFill>
                  <a:latin typeface="Verdana"/>
                </a:rPr>
                <a:t>Future research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kstvak 103"/>
          <p:cNvSpPr/>
          <p:nvPr/>
        </p:nvSpPr>
        <p:spPr>
          <a:xfrm>
            <a:off x="9953640" y="38598480"/>
            <a:ext cx="195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Expansion of the models to more than 2 part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Calculation of other performance measures such as kit earliness or inertia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Integration of kitting in a production proces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Cost calculation of the proce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Application of the technique in other domains such as telecommunication 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38:16Z</dcterms:created>
  <dc:creator>TELIN</dc:creator>
  <dc:description/>
  <dc:language>en-US</dc:language>
  <cp:lastModifiedBy>Eline</cp:lastModifiedBy>
  <cp:lastPrinted>2000-03-21T09:19:16Z</cp:lastPrinted>
  <dcterms:modified xsi:type="dcterms:W3CDTF">2010-09-13T12:20:14Z</dcterms:modified>
  <cp:revision>257</cp:revision>
  <dc:subject/>
  <dc:title>No Slide Title</dc:title>
</cp:coreProperties>
</file>